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CBB0-FED9-4BCC-9D0D-ABA6F59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556-C73D-460E-9887-42901C71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DCE-571F-491A-8206-1B87AE0A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EB5A-310F-4A58-960F-6CD718D5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B067-749C-4747-B23C-31648381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85D-6A2E-4F6C-9255-69C9AEF6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602B-84B4-467D-A4B0-80E60C9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1E7-B121-409A-A170-36C97E09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05FB-868E-4825-A4E8-0E5FD96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6AC3-525D-4F09-B8B0-CF810A9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4FFF-4959-4FDF-9C13-1C8E6002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4FF-282E-4423-8DBB-44639E7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C85-7758-4DCA-91C6-A092162E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3D03-3C62-4787-8538-D6695ACA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E656-51E1-41EE-8FDA-813A4F2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BF26-F0B3-44A5-B3AA-0ACB851B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13A3-3175-4475-A9CD-2AB2B501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14A-88A5-48DA-82B7-1814865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FE0-8614-4137-8EEF-5B2BA20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CA0-36ED-4DE5-90BB-D8593422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5A92-7E05-4859-A146-22991AD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B45-9207-4C87-BA76-CAB0B5BD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D5E-0C67-4B0A-9AFD-EDBB1FF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4E9-8112-4958-A162-4BEA399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894D-C75C-4660-A615-3621BA55C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278A-2020-4D25-A889-F36EE31AFE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E 4.0 as a browser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toshi Nakaji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-going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 (double the metrix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Keep it work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ug fix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01520" y="533160"/>
            <a:ext cx="6342120" cy="14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gh Estimate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e time development co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4 persons X 2 weeks (no buffering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intenance (bug-fixes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1 or 2 dedicated develop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(To Be Filled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3352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in95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1828800"/>
            <a:ext cx="22860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3581280"/>
            <a:ext cx="2286000" cy="838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257800"/>
            <a:ext cx="22860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0200" y="1676520"/>
            <a:ext cx="35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skto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/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429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Folder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API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51055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istView/TreeView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oolbar Contro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7672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.0 Brows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8288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3434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1676520"/>
            <a:ext cx="34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/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343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ReBa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556272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Wini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Urlm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lin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556272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ctxprx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172200"/>
            <a:ext cx="14479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leaut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6172200"/>
            <a:ext cx="144756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8640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weeper 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5486400"/>
            <a:ext cx="670572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176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4876920"/>
            <a:ext cx="228600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shtm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876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ML Vie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56236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3 running on Win95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0384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2209680"/>
            <a:ext cx="228600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6172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52388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explorer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ray/StartButt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Reba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971800"/>
            <a:ext cx="22860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81952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Folder/Explor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/Shell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334120"/>
            <a:ext cx="2286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5257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Internet Name Space hoo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+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</a:rPr>
              <a:t> WebVie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457200"/>
            <a:ext cx="563868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Shell Proce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981080"/>
            <a:ext cx="380988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4724280"/>
            <a:ext cx="228600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ctl3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523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tub (just calls shdocvw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472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+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Reb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2362320"/>
            <a:ext cx="228600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docv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2096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 Name Spa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View/DocObject mapp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Browser window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Automa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IE command lin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5029200" cy="125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E 4.0 Browser-Onl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981080"/>
            <a:ext cx="182880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1981080"/>
            <a:ext cx="1752840" cy="441972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2514600"/>
            <a:ext cx="83844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4038480"/>
            <a:ext cx="7621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0040" y="22860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hell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400" y="385128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Open C:\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133720" y="4800240"/>
            <a:ext cx="685800" cy="6858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4864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705360" y="259092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78200" y="217476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D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6705360" y="4800240"/>
            <a:ext cx="609480" cy="6094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32880" y="54100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xplorer 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721200" y="36162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6640" y="3276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E Aut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721200" y="4302000"/>
            <a:ext cx="6094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3400" y="396252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http://…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01520" y="609120"/>
            <a:ext cx="634212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itional One-time Cost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-coupling shdocvw from shell32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ke following features work agai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Comman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Type associations (html, jpg, …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D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IE Auto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bChec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hena integ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8:40:59Z</dcterms:created>
  <dc:creator>Satoshi Nakajima</dc:creator>
  <dc:description/>
  <dc:language>en-US</dc:language>
  <cp:lastModifiedBy>Satoshi Nakajima</cp:lastModifiedBy>
  <cp:lastPrinted>1996-12-09T20:07:36Z</cp:lastPrinted>
  <dcterms:modified xsi:type="dcterms:W3CDTF">1996-12-09T22:44:30Z</dcterms:modified>
  <cp:revision>7</cp:revision>
  <dc:subject/>
  <dc:title>IE 4.0 as a browser</dc:title>
</cp:coreProperties>
</file>