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A43D-8459-4967-9DAE-295C0797C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144D-D8A1-4FD3-8C94-6CB31B68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C941-4B91-46B7-A723-35B2DB657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96EC-B0A9-467E-9F3D-988CCF9E1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DC209-84E8-43C7-A0B3-8F5C937C4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1C4D1-E9B0-433B-AFA1-1406D00F4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22CF7-51C3-4AF3-B3D3-D856A99CA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12F33-F755-4782-98F0-76B1E5B80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BA19D-C7C1-40FD-9F4F-F6C1C51F2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400" y="68544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AFB5A-E55D-4071-9F7B-6097333BE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4D5E1-863A-4DC6-A961-BFBB783E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F610-6243-43E5-AE00-38C9BCAA4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1FEAC-7710-4A21-8E55-EC96C06E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82BA8-6ACE-4AAD-8368-E6E7554F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FF7AD-3581-491A-961B-D92FD5FA5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5C193-8265-40F8-A9E3-431321767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4F50B-1FAA-4641-816D-0D9915D9E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7ED7-BD03-4422-9A23-4D30BE2BE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DC0C-5A0B-4613-9C4F-D9218C9E8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8146-7B46-43C1-94AF-AC4437D9B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68544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9BD1-1997-48C2-825C-1132E0C4C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D8CB-CBA4-494F-ADAD-4C5B154A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29B6-FB78-476B-B5A6-F90DF412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CA94-42D2-46EB-A9BF-0F365FEE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162920" y="-533520"/>
            <a:ext cx="2514600" cy="2514600"/>
          </a:xfrm>
          <a:prstGeom prst="diamond">
            <a:avLst/>
          </a:prstGeom>
          <a:gradFill rotWithShape="0">
            <a:gsLst>
              <a:gs pos="0">
                <a:srgbClr val="003399"/>
              </a:gs>
              <a:gs pos="100000">
                <a:srgbClr val="0017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5B6BF-7EB4-457F-B4CC-B7D1FF492BB5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0099"/>
              </a:gs>
              <a:gs pos="100000">
                <a:srgbClr val="00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44A49-B917-4E98-8FE1-CD7B6D6D4529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lnSpc>
                <a:spcPct val="75000"/>
              </a:lnSpc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lnSpc>
                <a:spcPct val="75000"/>
              </a:lnSpc>
              <a:spcBef>
                <a:spcPts val="675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IE 4.0 Shell Architecture</a:t>
            </a:r>
            <a:endParaRPr b="0" lang="en-US" sz="4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6553080"/>
            <a:ext cx="426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IE 4.0 Technology Exchange Meet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4120" y="3564000"/>
            <a:ext cx="4114800" cy="4132080"/>
          </a:xfrm>
          <a:prstGeom prst="diamond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800000"/>
                </a:solidFill>
                <a:uFillTx/>
                <a:latin typeface="Garamond"/>
              </a:rPr>
              <a:t>   </a:t>
            </a:r>
            <a:r>
              <a:rPr b="0" lang="en-US" sz="4800" spc="-1" strike="noStrike" u="sng">
                <a:solidFill>
                  <a:srgbClr val="800000"/>
                </a:solidFill>
                <a:uFillTx/>
                <a:latin typeface="Garamond"/>
              </a:rPr>
              <a:t>IE 4.0 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645280" y="2743200"/>
            <a:ext cx="327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Satoshi Nakajim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6248520"/>
            <a:ext cx="426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8 Nov., 199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IShellBrowser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It allows the shell view to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Merge Menu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Add Toolbar button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Put some status tex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ranslate accelerator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2842920" y="5943600"/>
            <a:ext cx="6204960" cy="550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Not OLE’s In-place UI negotiation!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WIN95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DefView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A default implementation of IShellView on top of IShellFolder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WIN95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172200" y="4419720"/>
            <a:ext cx="2438280" cy="53316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:\tmp (folder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6" name=""/>
          <p:cNvCxnSpPr>
            <a:stCxn id="185" idx="1"/>
            <a:endCxn id="187" idx="3"/>
          </p:cNvCxnSpPr>
          <p:nvPr/>
        </p:nvCxnSpPr>
        <p:spPr>
          <a:xfrm flipH="1">
            <a:off x="5562000" y="4686120"/>
            <a:ext cx="610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87" name=""/>
          <p:cNvSpPr/>
          <p:nvPr/>
        </p:nvSpPr>
        <p:spPr>
          <a:xfrm>
            <a:off x="5334120" y="45720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48320" y="4191120"/>
            <a:ext cx="152388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ShellFold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06680" y="5181480"/>
            <a:ext cx="3585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SF::CreateViewObjec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447920" y="5410080"/>
            <a:ext cx="2514600" cy="5335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efVie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1" name=""/>
          <p:cNvCxnSpPr>
            <a:stCxn id="190" idx="0"/>
            <a:endCxn id="192" idx="2"/>
          </p:cNvCxnSpPr>
          <p:nvPr/>
        </p:nvCxnSpPr>
        <p:spPr>
          <a:xfrm flipV="1">
            <a:off x="2704680" y="4876200"/>
            <a:ext cx="1080" cy="5338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92" name=""/>
          <p:cNvSpPr/>
          <p:nvPr/>
        </p:nvSpPr>
        <p:spPr>
          <a:xfrm>
            <a:off x="2590920" y="464832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43000" y="4343400"/>
            <a:ext cx="137160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ShellView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rot="10819200">
            <a:off x="4647960" y="5333760"/>
            <a:ext cx="531720" cy="536400"/>
          </a:xfrm>
          <a:custGeom>
            <a:avLst/>
            <a:gdLst>
              <a:gd name="textAreaLeft" fmla="*/ 0 w 531720"/>
              <a:gd name="textAreaRight" fmla="*/ 532080 w 531720"/>
              <a:gd name="textAreaTop" fmla="*/ 0 h 536400"/>
              <a:gd name="textAreaBottom" fmla="*/ 536400 h 536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588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992040" y="6095880"/>
            <a:ext cx="4758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HCreateShellFolderView(psf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7" name=""/>
          <p:cNvCxnSpPr>
            <a:stCxn id="190" idx="3"/>
            <a:endCxn id="187" idx="1"/>
          </p:cNvCxnSpPr>
          <p:nvPr/>
        </p:nvCxnSpPr>
        <p:spPr>
          <a:xfrm flipV="1">
            <a:off x="3962520" y="4685760"/>
            <a:ext cx="1372320" cy="99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Extended Name Space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7720" y="205704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ISVs can plug-in their own hierarchical name spac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WIN95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3276720"/>
            <a:ext cx="2514600" cy="6094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xplor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95680" y="3429000"/>
            <a:ext cx="21337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esktop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3" name=""/>
          <p:cNvCxnSpPr>
            <a:stCxn id="202" idx="1"/>
            <a:endCxn id="204" idx="3"/>
          </p:cNvCxnSpPr>
          <p:nvPr/>
        </p:nvCxnSpPr>
        <p:spPr>
          <a:xfrm flipH="1">
            <a:off x="4114440" y="3619080"/>
            <a:ext cx="3816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04" name=""/>
          <p:cNvSpPr/>
          <p:nvPr/>
        </p:nvSpPr>
        <p:spPr>
          <a:xfrm>
            <a:off x="3886200" y="350532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581280" y="2971800"/>
            <a:ext cx="152424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ShellFold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34120" y="4038480"/>
            <a:ext cx="213336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yComput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7" name=""/>
          <p:cNvCxnSpPr>
            <a:stCxn id="206" idx="1"/>
            <a:endCxn id="208" idx="3"/>
          </p:cNvCxnSpPr>
          <p:nvPr/>
        </p:nvCxnSpPr>
        <p:spPr>
          <a:xfrm flipH="1">
            <a:off x="4952160" y="4228920"/>
            <a:ext cx="3819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4724280" y="41148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34120" y="4572000"/>
            <a:ext cx="213336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NetHoo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stCxn id="209" idx="1"/>
            <a:endCxn id="211" idx="3"/>
          </p:cNvCxnSpPr>
          <p:nvPr/>
        </p:nvCxnSpPr>
        <p:spPr>
          <a:xfrm flipH="1">
            <a:off x="4952160" y="4762080"/>
            <a:ext cx="3819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11" name=""/>
          <p:cNvSpPr/>
          <p:nvPr/>
        </p:nvSpPr>
        <p:spPr>
          <a:xfrm>
            <a:off x="4724280" y="464832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72200" y="5105520"/>
            <a:ext cx="21337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S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13" name=""/>
          <p:cNvCxnSpPr>
            <a:stCxn id="212" idx="1"/>
            <a:endCxn id="214" idx="3"/>
          </p:cNvCxnSpPr>
          <p:nvPr/>
        </p:nvCxnSpPr>
        <p:spPr>
          <a:xfrm flipH="1">
            <a:off x="5790960" y="5295600"/>
            <a:ext cx="3816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14" name=""/>
          <p:cNvSpPr/>
          <p:nvPr/>
        </p:nvSpPr>
        <p:spPr>
          <a:xfrm>
            <a:off x="5562720" y="518148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172200" y="5638680"/>
            <a:ext cx="21337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then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16" name=""/>
          <p:cNvCxnSpPr>
            <a:stCxn id="215" idx="1"/>
            <a:endCxn id="217" idx="3"/>
          </p:cNvCxnSpPr>
          <p:nvPr/>
        </p:nvCxnSpPr>
        <p:spPr>
          <a:xfrm flipH="1">
            <a:off x="5790960" y="5829120"/>
            <a:ext cx="3816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17" name=""/>
          <p:cNvSpPr/>
          <p:nvPr/>
        </p:nvSpPr>
        <p:spPr>
          <a:xfrm>
            <a:off x="5562720" y="57150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172200" y="6172200"/>
            <a:ext cx="21337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Zip Fold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1"/>
            <a:endCxn id="220" idx="3"/>
          </p:cNvCxnSpPr>
          <p:nvPr/>
        </p:nvCxnSpPr>
        <p:spPr>
          <a:xfrm flipH="1">
            <a:off x="5790960" y="6362280"/>
            <a:ext cx="3816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20" name=""/>
          <p:cNvSpPr/>
          <p:nvPr/>
        </p:nvSpPr>
        <p:spPr>
          <a:xfrm>
            <a:off x="5562720" y="624852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5105520" y="529596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5092200" y="636264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5079960" y="58294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724280" y="518148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24280" y="57150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624852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Internet Explorer 3.0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IE 3.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71600" y="2133720"/>
            <a:ext cx="2514600" cy="6094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ShellBrows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31" idx="0"/>
            <a:endCxn id="229" idx="2"/>
          </p:cNvCxnSpPr>
          <p:nvPr/>
        </p:nvCxnSpPr>
        <p:spPr>
          <a:xfrm flipV="1">
            <a:off x="2628720" y="2742480"/>
            <a:ext cx="1080" cy="2293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31" name=""/>
          <p:cNvSpPr/>
          <p:nvPr/>
        </p:nvSpPr>
        <p:spPr>
          <a:xfrm>
            <a:off x="2514600" y="29718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2120" y="3962520"/>
            <a:ext cx="1904760" cy="6094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:\tmp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3" name=""/>
          <p:cNvCxnSpPr>
            <a:stCxn id="232" idx="0"/>
            <a:endCxn id="234" idx="2"/>
          </p:cNvCxnSpPr>
          <p:nvPr/>
        </p:nvCxnSpPr>
        <p:spPr>
          <a:xfrm flipV="1">
            <a:off x="1714320" y="3656880"/>
            <a:ext cx="1080" cy="305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34" name=""/>
          <p:cNvSpPr/>
          <p:nvPr/>
        </p:nvSpPr>
        <p:spPr>
          <a:xfrm>
            <a:off x="1600200" y="34290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9480" y="2895480"/>
            <a:ext cx="1676520" cy="381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ShellBrows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133720" y="3352680"/>
            <a:ext cx="1371600" cy="381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ShellView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124080" y="3962520"/>
            <a:ext cx="1905120" cy="6094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edg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0"/>
            <a:endCxn id="239" idx="2"/>
          </p:cNvCxnSpPr>
          <p:nvPr/>
        </p:nvCxnSpPr>
        <p:spPr>
          <a:xfrm flipV="1">
            <a:off x="4076280" y="3656880"/>
            <a:ext cx="1080" cy="305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39" name=""/>
          <p:cNvSpPr/>
          <p:nvPr/>
        </p:nvSpPr>
        <p:spPr>
          <a:xfrm>
            <a:off x="3962520" y="34290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41" idx="0"/>
            <a:endCxn id="237" idx="2"/>
          </p:cNvCxnSpPr>
          <p:nvPr/>
        </p:nvCxnSpPr>
        <p:spPr>
          <a:xfrm flipV="1">
            <a:off x="4076280" y="4571280"/>
            <a:ext cx="1080" cy="305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41" name=""/>
          <p:cNvSpPr/>
          <p:nvPr/>
        </p:nvSpPr>
        <p:spPr>
          <a:xfrm>
            <a:off x="3962520" y="487692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267080" y="4724280"/>
            <a:ext cx="2438640" cy="381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OleDocumentSit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24080" y="5867280"/>
            <a:ext cx="1905120" cy="6098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TMLObj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0"/>
            <a:endCxn id="245" idx="2"/>
          </p:cNvCxnSpPr>
          <p:nvPr/>
        </p:nvCxnSpPr>
        <p:spPr>
          <a:xfrm flipV="1">
            <a:off x="4076280" y="5562360"/>
            <a:ext cx="1080" cy="3052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45" name=""/>
          <p:cNvSpPr/>
          <p:nvPr/>
        </p:nvSpPr>
        <p:spPr>
          <a:xfrm>
            <a:off x="3962520" y="533412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343400" y="5257800"/>
            <a:ext cx="190512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OleDocu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867280" y="2362320"/>
            <a:ext cx="2438640" cy="53316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ttp://ms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8" name=""/>
          <p:cNvCxnSpPr>
            <a:stCxn id="247" idx="1"/>
            <a:endCxn id="249" idx="3"/>
          </p:cNvCxnSpPr>
          <p:nvPr/>
        </p:nvCxnSpPr>
        <p:spPr>
          <a:xfrm flipH="1">
            <a:off x="5257080" y="2628720"/>
            <a:ext cx="610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49" name=""/>
          <p:cNvSpPr/>
          <p:nvPr/>
        </p:nvSpPr>
        <p:spPr>
          <a:xfrm>
            <a:off x="5029200" y="25146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343400" y="2133720"/>
            <a:ext cx="152388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ShellFold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06680" y="3276720"/>
            <a:ext cx="3585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SF::CreateViewObjec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rot="10819200">
            <a:off x="4724280" y="3123360"/>
            <a:ext cx="532080" cy="536760"/>
          </a:xfrm>
          <a:custGeom>
            <a:avLst/>
            <a:gdLst>
              <a:gd name="textAreaLeft" fmla="*/ 0 w 532080"/>
              <a:gd name="textAreaRight" fmla="*/ 532440 w 532080"/>
              <a:gd name="textAreaTop" fmla="*/ 0 h 536760"/>
              <a:gd name="textAreaBottom" fmla="*/ 537120 h 536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86400" y="5867280"/>
            <a:ext cx="1905120" cy="6098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ord/Exc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54" name=""/>
          <p:cNvCxnSpPr>
            <a:stCxn id="253" idx="0"/>
            <a:endCxn id="255" idx="2"/>
          </p:cNvCxnSpPr>
          <p:nvPr/>
        </p:nvCxnSpPr>
        <p:spPr>
          <a:xfrm flipV="1">
            <a:off x="6438600" y="5562360"/>
            <a:ext cx="1080" cy="3052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55" name=""/>
          <p:cNvSpPr/>
          <p:nvPr/>
        </p:nvSpPr>
        <p:spPr>
          <a:xfrm>
            <a:off x="6324480" y="533412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CShellBrowser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ShellBrowser is a mini-Explorer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886200"/>
            <a:ext cx="2514600" cy="5335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ShellBrows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60" idx="0"/>
            <a:endCxn id="258" idx="2"/>
          </p:cNvCxnSpPr>
          <p:nvPr/>
        </p:nvCxnSpPr>
        <p:spPr>
          <a:xfrm flipV="1">
            <a:off x="4000320" y="4419000"/>
            <a:ext cx="1080" cy="2293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60" name=""/>
          <p:cNvSpPr/>
          <p:nvPr/>
        </p:nvSpPr>
        <p:spPr>
          <a:xfrm>
            <a:off x="3886200" y="464832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8080" y="4648320"/>
            <a:ext cx="2819520" cy="1752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ShellBrows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OleCommandTarge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OleContain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OleInPlaceUIWindow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62" name=""/>
          <p:cNvCxnSpPr>
            <a:stCxn id="263" idx="1"/>
            <a:endCxn id="258" idx="3"/>
          </p:cNvCxnSpPr>
          <p:nvPr/>
        </p:nvCxnSpPr>
        <p:spPr>
          <a:xfrm flipH="1">
            <a:off x="5257080" y="4152600"/>
            <a:ext cx="3056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63" name=""/>
          <p:cNvSpPr/>
          <p:nvPr/>
        </p:nvSpPr>
        <p:spPr>
          <a:xfrm>
            <a:off x="5562720" y="403848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943600" y="3657600"/>
            <a:ext cx="2362320" cy="1752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Dispatch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WebBrowserApp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HlinkFram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TargetFram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914400" y="2895480"/>
            <a:ext cx="2514600" cy="5335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BaseBrows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124080" y="3505320"/>
            <a:ext cx="45720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570840" y="3276720"/>
            <a:ext cx="141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ahoma"/>
              </a:rPr>
              <a:t>subclas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IE 3.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600200" y="2819520"/>
            <a:ext cx="3048120" cy="1828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Wedge”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1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IE 3.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05120" y="2971800"/>
            <a:ext cx="2514600" cy="6094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ShellDocVie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73" name=""/>
          <p:cNvCxnSpPr>
            <a:stCxn id="272" idx="0"/>
            <a:endCxn id="274" idx="2"/>
          </p:cNvCxnSpPr>
          <p:nvPr/>
        </p:nvCxnSpPr>
        <p:spPr>
          <a:xfrm flipV="1">
            <a:off x="3161880" y="2361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74" name=""/>
          <p:cNvSpPr/>
          <p:nvPr/>
        </p:nvSpPr>
        <p:spPr>
          <a:xfrm>
            <a:off x="3048120" y="213372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6" idx="0"/>
            <a:endCxn id="277" idx="2"/>
          </p:cNvCxnSpPr>
          <p:nvPr/>
        </p:nvCxnSpPr>
        <p:spPr>
          <a:xfrm flipV="1">
            <a:off x="3161880" y="4495320"/>
            <a:ext cx="1080" cy="6105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76" name=""/>
          <p:cNvSpPr/>
          <p:nvPr/>
        </p:nvSpPr>
        <p:spPr>
          <a:xfrm>
            <a:off x="3048120" y="510552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724280" y="4495680"/>
            <a:ext cx="2819520" cy="2057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OleDocumentSit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OleSit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OleInPlaceSit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OleCommandTarge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ServiceProvid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05120" y="3886200"/>
            <a:ext cx="2514600" cy="6094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DocObjectHos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24080" y="3581280"/>
            <a:ext cx="152640" cy="3049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724280" y="2286000"/>
            <a:ext cx="2743200" cy="9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ShellView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OleCommandTarge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WebBrowserOC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2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IE 3.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971800" y="3124080"/>
            <a:ext cx="3048120" cy="1828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276720" y="3276720"/>
            <a:ext cx="2514600" cy="6094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WebBrowserOC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85" name=""/>
          <p:cNvCxnSpPr>
            <a:stCxn id="284" idx="0"/>
            <a:endCxn id="286" idx="2"/>
          </p:cNvCxnSpPr>
          <p:nvPr/>
        </p:nvCxnSpPr>
        <p:spPr>
          <a:xfrm flipV="1">
            <a:off x="4533480" y="2666520"/>
            <a:ext cx="1080" cy="6105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86" name=""/>
          <p:cNvSpPr/>
          <p:nvPr/>
        </p:nvSpPr>
        <p:spPr>
          <a:xfrm>
            <a:off x="4419720" y="243828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87" name=""/>
          <p:cNvCxnSpPr>
            <a:stCxn id="288" idx="0"/>
            <a:endCxn id="289" idx="2"/>
          </p:cNvCxnSpPr>
          <p:nvPr/>
        </p:nvCxnSpPr>
        <p:spPr>
          <a:xfrm flipV="1">
            <a:off x="4533480" y="479988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88" name=""/>
          <p:cNvSpPr/>
          <p:nvPr/>
        </p:nvSpPr>
        <p:spPr>
          <a:xfrm>
            <a:off x="4419720" y="541008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276720" y="4191120"/>
            <a:ext cx="2514600" cy="6094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WebBrowserSB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495680" y="3886200"/>
            <a:ext cx="152640" cy="3049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33520" y="1752480"/>
            <a:ext cx="2361960" cy="2286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OleObjec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ViewObject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PersistSreamIni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OleContro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WebBrows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800600" y="5105520"/>
            <a:ext cx="2819520" cy="1752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ShellBrows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OleCommandTarge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OleContain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OleInPlaceUIWindow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172200" y="3276720"/>
            <a:ext cx="2514600" cy="53316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BaseBrows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5866920" y="3886200"/>
            <a:ext cx="83844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390360" y="3962520"/>
            <a:ext cx="141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ahoma"/>
              </a:rPr>
              <a:t>subclas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Frame Set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7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IE 3.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981080" y="3886200"/>
            <a:ext cx="266724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057400" y="3962520"/>
            <a:ext cx="251460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WebBrowserOC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00" name=""/>
          <p:cNvCxnSpPr>
            <a:stCxn id="299" idx="0"/>
            <a:endCxn id="301" idx="2"/>
          </p:cNvCxnSpPr>
          <p:nvPr/>
        </p:nvCxnSpPr>
        <p:spPr>
          <a:xfrm flipV="1">
            <a:off x="3314520" y="3809520"/>
            <a:ext cx="1080" cy="1533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01" name=""/>
          <p:cNvSpPr/>
          <p:nvPr/>
        </p:nvSpPr>
        <p:spPr>
          <a:xfrm>
            <a:off x="3200400" y="3657600"/>
            <a:ext cx="228600" cy="15228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02" name=""/>
          <p:cNvCxnSpPr>
            <a:stCxn id="303" idx="0"/>
            <a:endCxn id="304" idx="2"/>
          </p:cNvCxnSpPr>
          <p:nvPr/>
        </p:nvCxnSpPr>
        <p:spPr>
          <a:xfrm flipV="1">
            <a:off x="3314520" y="4723920"/>
            <a:ext cx="1080" cy="1533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03" name=""/>
          <p:cNvSpPr/>
          <p:nvPr/>
        </p:nvSpPr>
        <p:spPr>
          <a:xfrm>
            <a:off x="3200400" y="4876920"/>
            <a:ext cx="228600" cy="15228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057400" y="4343400"/>
            <a:ext cx="251460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WebBrowserSB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800600" y="3886200"/>
            <a:ext cx="266688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876920" y="3962520"/>
            <a:ext cx="251460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WebBrowserOC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6" idx="0"/>
            <a:endCxn id="308" idx="2"/>
          </p:cNvCxnSpPr>
          <p:nvPr/>
        </p:nvCxnSpPr>
        <p:spPr>
          <a:xfrm flipV="1">
            <a:off x="6133680" y="3809520"/>
            <a:ext cx="1080" cy="1533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6019920" y="3657600"/>
            <a:ext cx="228600" cy="15228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09" name=""/>
          <p:cNvCxnSpPr>
            <a:stCxn id="310" idx="0"/>
            <a:endCxn id="311" idx="2"/>
          </p:cNvCxnSpPr>
          <p:nvPr/>
        </p:nvCxnSpPr>
        <p:spPr>
          <a:xfrm flipV="1">
            <a:off x="6133680" y="4723920"/>
            <a:ext cx="1080" cy="1533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10" name=""/>
          <p:cNvSpPr/>
          <p:nvPr/>
        </p:nvSpPr>
        <p:spPr>
          <a:xfrm>
            <a:off x="6019920" y="4876920"/>
            <a:ext cx="228600" cy="15228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876920" y="4343400"/>
            <a:ext cx="251460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WebBrowserSB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429000" y="762120"/>
            <a:ext cx="251460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ShellBrows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13" name=""/>
          <p:cNvCxnSpPr>
            <a:stCxn id="314" idx="0"/>
            <a:endCxn id="312" idx="2"/>
          </p:cNvCxnSpPr>
          <p:nvPr/>
        </p:nvCxnSpPr>
        <p:spPr>
          <a:xfrm flipV="1">
            <a:off x="4686120" y="1142280"/>
            <a:ext cx="1080" cy="1530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4572000" y="1295280"/>
            <a:ext cx="228600" cy="1638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16" idx="0"/>
            <a:endCxn id="317" idx="2"/>
          </p:cNvCxnSpPr>
          <p:nvPr/>
        </p:nvCxnSpPr>
        <p:spPr>
          <a:xfrm flipV="1">
            <a:off x="4686120" y="2580840"/>
            <a:ext cx="1080" cy="1627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17" name=""/>
          <p:cNvSpPr/>
          <p:nvPr/>
        </p:nvSpPr>
        <p:spPr>
          <a:xfrm>
            <a:off x="4572000" y="2438280"/>
            <a:ext cx="228600" cy="14292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2895480"/>
            <a:ext cx="144756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it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20" idx="0"/>
            <a:endCxn id="318" idx="2"/>
          </p:cNvCxnSpPr>
          <p:nvPr/>
        </p:nvCxnSpPr>
        <p:spPr>
          <a:xfrm flipV="1">
            <a:off x="3314520" y="3276000"/>
            <a:ext cx="1080" cy="1530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20" name=""/>
          <p:cNvSpPr/>
          <p:nvPr/>
        </p:nvSpPr>
        <p:spPr>
          <a:xfrm>
            <a:off x="3200400" y="3429000"/>
            <a:ext cx="228600" cy="16344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410080" y="2895480"/>
            <a:ext cx="14479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it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22" name=""/>
          <p:cNvCxnSpPr>
            <a:stCxn id="323" idx="0"/>
            <a:endCxn id="321" idx="2"/>
          </p:cNvCxnSpPr>
          <p:nvPr/>
        </p:nvCxnSpPr>
        <p:spPr>
          <a:xfrm flipV="1">
            <a:off x="6133680" y="3276000"/>
            <a:ext cx="1080" cy="1530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23" name=""/>
          <p:cNvSpPr/>
          <p:nvPr/>
        </p:nvSpPr>
        <p:spPr>
          <a:xfrm>
            <a:off x="6019920" y="3429000"/>
            <a:ext cx="228600" cy="16344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362320" y="6248520"/>
            <a:ext cx="190476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TMLObj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stCxn id="324" idx="0"/>
            <a:endCxn id="326" idx="2"/>
          </p:cNvCxnSpPr>
          <p:nvPr/>
        </p:nvCxnSpPr>
        <p:spPr>
          <a:xfrm flipV="1">
            <a:off x="3314520" y="6162480"/>
            <a:ext cx="1080" cy="864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26" name=""/>
          <p:cNvSpPr/>
          <p:nvPr/>
        </p:nvSpPr>
        <p:spPr>
          <a:xfrm>
            <a:off x="3200400" y="6019920"/>
            <a:ext cx="228600" cy="14292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181480" y="6248520"/>
            <a:ext cx="19051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TMLObj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7" idx="0"/>
            <a:endCxn id="329" idx="2"/>
          </p:cNvCxnSpPr>
          <p:nvPr/>
        </p:nvCxnSpPr>
        <p:spPr>
          <a:xfrm flipV="1">
            <a:off x="6133680" y="6162480"/>
            <a:ext cx="1080" cy="864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29" name=""/>
          <p:cNvSpPr/>
          <p:nvPr/>
        </p:nvSpPr>
        <p:spPr>
          <a:xfrm>
            <a:off x="6019920" y="6019920"/>
            <a:ext cx="228600" cy="14292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514600" y="2666880"/>
            <a:ext cx="434340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010280" y="3276720"/>
            <a:ext cx="1524240" cy="304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OleClientSi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010280" y="3581280"/>
            <a:ext cx="1219320" cy="304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OleObj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733920" y="2743200"/>
            <a:ext cx="190476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TLMObj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362320" y="5334120"/>
            <a:ext cx="190476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edg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34" name=""/>
          <p:cNvCxnSpPr>
            <a:stCxn id="333" idx="0"/>
            <a:endCxn id="335" idx="2"/>
          </p:cNvCxnSpPr>
          <p:nvPr/>
        </p:nvCxnSpPr>
        <p:spPr>
          <a:xfrm flipV="1">
            <a:off x="3314520" y="5257800"/>
            <a:ext cx="1080" cy="766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35" name=""/>
          <p:cNvSpPr/>
          <p:nvPr/>
        </p:nvSpPr>
        <p:spPr>
          <a:xfrm>
            <a:off x="3200400" y="5105520"/>
            <a:ext cx="228600" cy="15228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36" name=""/>
          <p:cNvCxnSpPr>
            <a:stCxn id="337" idx="0"/>
            <a:endCxn id="333" idx="2"/>
          </p:cNvCxnSpPr>
          <p:nvPr/>
        </p:nvCxnSpPr>
        <p:spPr>
          <a:xfrm flipV="1">
            <a:off x="3314520" y="5715000"/>
            <a:ext cx="1080" cy="766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37" name=""/>
          <p:cNvSpPr/>
          <p:nvPr/>
        </p:nvSpPr>
        <p:spPr>
          <a:xfrm>
            <a:off x="3200400" y="5791320"/>
            <a:ext cx="228600" cy="15228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181480" y="5334120"/>
            <a:ext cx="19051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edg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39" name=""/>
          <p:cNvCxnSpPr>
            <a:stCxn id="338" idx="0"/>
            <a:endCxn id="340" idx="2"/>
          </p:cNvCxnSpPr>
          <p:nvPr/>
        </p:nvCxnSpPr>
        <p:spPr>
          <a:xfrm flipV="1">
            <a:off x="6133680" y="5257800"/>
            <a:ext cx="1080" cy="766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40" name=""/>
          <p:cNvSpPr/>
          <p:nvPr/>
        </p:nvSpPr>
        <p:spPr>
          <a:xfrm>
            <a:off x="6019920" y="5105520"/>
            <a:ext cx="228600" cy="15228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41" name=""/>
          <p:cNvCxnSpPr>
            <a:stCxn id="342" idx="0"/>
            <a:endCxn id="338" idx="2"/>
          </p:cNvCxnSpPr>
          <p:nvPr/>
        </p:nvCxnSpPr>
        <p:spPr>
          <a:xfrm flipV="1">
            <a:off x="6133680" y="5715000"/>
            <a:ext cx="1080" cy="766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42" name=""/>
          <p:cNvSpPr/>
          <p:nvPr/>
        </p:nvSpPr>
        <p:spPr>
          <a:xfrm>
            <a:off x="6019920" y="5791320"/>
            <a:ext cx="228600" cy="15228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162920" y="4876920"/>
            <a:ext cx="1523880" cy="304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ShellBrow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162920" y="5181480"/>
            <a:ext cx="1218960" cy="304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ShellVie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791320" y="1219320"/>
            <a:ext cx="1523880" cy="304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ShellBrow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791320" y="1523880"/>
            <a:ext cx="1218960" cy="304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ShellVie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238880" y="5791320"/>
            <a:ext cx="1905120" cy="228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OleDocumentSi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238880" y="6019920"/>
            <a:ext cx="1524240" cy="304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OleDocu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733920" y="1752480"/>
            <a:ext cx="190476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edg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stCxn id="349" idx="0"/>
            <a:endCxn id="351" idx="2"/>
          </p:cNvCxnSpPr>
          <p:nvPr/>
        </p:nvCxnSpPr>
        <p:spPr>
          <a:xfrm flipV="1">
            <a:off x="4686120" y="1675800"/>
            <a:ext cx="1080" cy="766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51" name=""/>
          <p:cNvSpPr/>
          <p:nvPr/>
        </p:nvSpPr>
        <p:spPr>
          <a:xfrm>
            <a:off x="4572000" y="1523880"/>
            <a:ext cx="228600" cy="15264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52" name=""/>
          <p:cNvCxnSpPr>
            <a:stCxn id="353" idx="0"/>
            <a:endCxn id="349" idx="2"/>
          </p:cNvCxnSpPr>
          <p:nvPr/>
        </p:nvCxnSpPr>
        <p:spPr>
          <a:xfrm flipV="1">
            <a:off x="4686120" y="2133000"/>
            <a:ext cx="1080" cy="766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53" name=""/>
          <p:cNvSpPr/>
          <p:nvPr/>
        </p:nvSpPr>
        <p:spPr>
          <a:xfrm>
            <a:off x="4572000" y="2209680"/>
            <a:ext cx="228600" cy="15264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791320" y="2057400"/>
            <a:ext cx="1904760" cy="228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OleDocumentSi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91320" y="2286000"/>
            <a:ext cx="1523880" cy="304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OleDocu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66680" y="7617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IE 4.0 Explorer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7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IE 4.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990720" y="1981080"/>
            <a:ext cx="7467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IE 4.0 Explorer, Folder and Desktop are based on IE 3.0 browser code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638680" y="4267080"/>
            <a:ext cx="2514600" cy="5335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ShellBrows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809880" y="3276720"/>
            <a:ext cx="2514600" cy="53316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BaseBrows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019920" y="3886200"/>
            <a:ext cx="4572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466680" y="3657600"/>
            <a:ext cx="141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ahoma"/>
              </a:rPr>
              <a:t>subclas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85800" y="4114800"/>
            <a:ext cx="2819520" cy="1828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8080" y="4267080"/>
            <a:ext cx="2514600" cy="6098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WebBrowserOC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38080" y="5181480"/>
            <a:ext cx="2514600" cy="6098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WebBrowserSB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057400" y="4876920"/>
            <a:ext cx="152280" cy="30456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3352680" y="3962520"/>
            <a:ext cx="91440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876920" y="396252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581280" y="5334120"/>
            <a:ext cx="2667240" cy="53316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DesktopBrows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799440" y="4267080"/>
            <a:ext cx="141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ahoma"/>
              </a:rPr>
              <a:t>subclas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400800" y="5334120"/>
            <a:ext cx="2514600" cy="53316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ExplorerBrws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010280" y="4952880"/>
            <a:ext cx="4572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457040" y="4724280"/>
            <a:ext cx="141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ahoma"/>
              </a:rPr>
              <a:t>subclas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1676520" y="5181480"/>
            <a:ext cx="2819160" cy="1447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WebBar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WebBar is a dockable browser, which can be docked on a browser or the desktop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IE 4.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828800" y="5257800"/>
            <a:ext cx="251460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WebBa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828800" y="5715000"/>
            <a:ext cx="251460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OCHos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828800" y="6172200"/>
            <a:ext cx="251460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ebBrowserOC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stCxn id="378" idx="0"/>
            <a:endCxn id="382" idx="2"/>
          </p:cNvCxnSpPr>
          <p:nvPr/>
        </p:nvCxnSpPr>
        <p:spPr>
          <a:xfrm flipV="1">
            <a:off x="3085920" y="4876560"/>
            <a:ext cx="1080" cy="3816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82" name=""/>
          <p:cNvSpPr/>
          <p:nvPr/>
        </p:nvSpPr>
        <p:spPr>
          <a:xfrm>
            <a:off x="2971800" y="464832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52680" y="4572000"/>
            <a:ext cx="228600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DockingWindow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828800" y="3276720"/>
            <a:ext cx="2514600" cy="6094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BaseBrows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85" name=""/>
          <p:cNvCxnSpPr>
            <a:stCxn id="386" idx="0"/>
            <a:endCxn id="384" idx="2"/>
          </p:cNvCxnSpPr>
          <p:nvPr/>
        </p:nvCxnSpPr>
        <p:spPr>
          <a:xfrm flipV="1">
            <a:off x="3085920" y="3885480"/>
            <a:ext cx="1080" cy="2293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"/>
          <p:cNvSpPr/>
          <p:nvPr/>
        </p:nvSpPr>
        <p:spPr>
          <a:xfrm>
            <a:off x="2971800" y="41148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80880" y="4038480"/>
            <a:ext cx="2514600" cy="381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DockingWindowSit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95880" y="3352680"/>
            <a:ext cx="2514600" cy="5335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ShellBrows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419720" y="3657600"/>
            <a:ext cx="1447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7880" y="3200400"/>
            <a:ext cx="141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ahoma"/>
              </a:rPr>
              <a:t>subclas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095880" y="4038480"/>
            <a:ext cx="2514600" cy="5335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DesktopBrws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419720" y="3733920"/>
            <a:ext cx="152388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7617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Scope of this presentation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overed in this presentatio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Browser, Shell Explorer, WebBar, Asynchronos Navigation, UI negotiatio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Not covered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ebView, Automation Model, Desktop New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7772400" y="228600"/>
            <a:ext cx="1371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Topi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Layout Negotiation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019560" cy="472284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IE 4.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Effective Client Area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019560" cy="472284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1724040" y="2352600"/>
            <a:ext cx="5905440" cy="40291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828800" y="4114800"/>
            <a:ext cx="5638680" cy="17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ffective Client Are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BaseBrowser::_GetEffectiveClientAre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DockingWindowSite::GetBorderDW for the internet toolbar returns this rectangl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IE 4.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778040" y="2413080"/>
            <a:ext cx="5803920" cy="6984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828800" y="259092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ternet toolbar takes this border sp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ISTBS::GetBorderST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019560" cy="472284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1724040" y="3127320"/>
            <a:ext cx="5905440" cy="32544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276720" y="3505320"/>
            <a:ext cx="426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DockingWindowSite::GetBorderDW for the scope pane returns this rectangl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IE 4.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765440" y="3403440"/>
            <a:ext cx="1536480" cy="29084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581280" y="4876920"/>
            <a:ext cx="396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scope pane takes the border space from left and top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 flipV="1">
            <a:off x="2362320" y="4648320"/>
            <a:ext cx="121896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765440" y="3162240"/>
            <a:ext cx="5816520" cy="2034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 flipV="1">
            <a:off x="2895120" y="3276720"/>
            <a:ext cx="762120" cy="1676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Shell View Rectangle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019560" cy="472284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3400560" y="3305160"/>
            <a:ext cx="4228920" cy="307656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581280" y="4343400"/>
            <a:ext cx="396252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BaseBrowser::_GetViewR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OleInPlaceUIWindow::GetBorder returns this rectangl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IE 4.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429000" y="3340080"/>
            <a:ext cx="416556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267080" y="388620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cel’s formular b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 flipV="1">
            <a:off x="3886200" y="3429000"/>
            <a:ext cx="38088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Shell View Window Rectangle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019560" cy="472284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3400560" y="3508200"/>
            <a:ext cx="4228920" cy="28735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581280" y="4343400"/>
            <a:ext cx="3886200" cy="16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BaseBrowser::_GetViewWindowR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OleDocumentView::SetRect will be called with this rectangl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IE 4.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Asynchronous Navigation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7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IE 4.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85800" y="2133720"/>
            <a:ext cx="251460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ShellBrows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990720" y="3429000"/>
            <a:ext cx="190476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edge1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30" name=""/>
          <p:cNvCxnSpPr>
            <a:stCxn id="429" idx="0"/>
            <a:endCxn id="431" idx="2"/>
          </p:cNvCxnSpPr>
          <p:nvPr/>
        </p:nvCxnSpPr>
        <p:spPr>
          <a:xfrm flipV="1">
            <a:off x="1942920" y="3199680"/>
            <a:ext cx="1080" cy="2293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431" name=""/>
          <p:cNvSpPr/>
          <p:nvPr/>
        </p:nvSpPr>
        <p:spPr>
          <a:xfrm>
            <a:off x="1828800" y="29718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828800" y="43434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33" name=""/>
          <p:cNvCxnSpPr>
            <a:stCxn id="428" idx="2"/>
            <a:endCxn id="431" idx="0"/>
          </p:cNvCxnSpPr>
          <p:nvPr/>
        </p:nvCxnSpPr>
        <p:spPr>
          <a:xfrm>
            <a:off x="1942920" y="2590920"/>
            <a:ext cx="1080" cy="381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4" name=""/>
          <p:cNvSpPr/>
          <p:nvPr/>
        </p:nvSpPr>
        <p:spPr>
          <a:xfrm>
            <a:off x="1068120" y="2666880"/>
            <a:ext cx="752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_psv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898360" y="5029200"/>
            <a:ext cx="6049800" cy="16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1. IHlinkFrame::Navigate calle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2. Create a new Wedge (Wedge2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3. Create URL moniker and call BindToObjec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(Note that HTMLView1 remains UIActive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089160" y="3352680"/>
            <a:ext cx="190512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edge2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37" name=""/>
          <p:cNvCxnSpPr>
            <a:stCxn id="436" idx="0"/>
            <a:endCxn id="438" idx="2"/>
          </p:cNvCxnSpPr>
          <p:nvPr/>
        </p:nvCxnSpPr>
        <p:spPr>
          <a:xfrm flipV="1">
            <a:off x="4041360" y="3199680"/>
            <a:ext cx="1080" cy="1530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438" name=""/>
          <p:cNvSpPr/>
          <p:nvPr/>
        </p:nvSpPr>
        <p:spPr>
          <a:xfrm>
            <a:off x="3927600" y="29718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39" name=""/>
          <p:cNvCxnSpPr>
            <a:endCxn id="438" idx="1"/>
          </p:cNvCxnSpPr>
          <p:nvPr/>
        </p:nvCxnSpPr>
        <p:spPr>
          <a:xfrm>
            <a:off x="3013200" y="2590920"/>
            <a:ext cx="915120" cy="496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40" name=""/>
          <p:cNvSpPr/>
          <p:nvPr/>
        </p:nvSpPr>
        <p:spPr>
          <a:xfrm>
            <a:off x="2084400" y="2590920"/>
            <a:ext cx="1838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_psvPending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124080" y="1676520"/>
            <a:ext cx="533520" cy="53316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3920" y="1676520"/>
            <a:ext cx="380880" cy="38088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384800" y="2819520"/>
            <a:ext cx="380880" cy="38088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156200" y="4419720"/>
            <a:ext cx="205740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URL monik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45" name=""/>
          <p:cNvCxnSpPr>
            <a:stCxn id="444" idx="0"/>
            <a:endCxn id="446" idx="2"/>
          </p:cNvCxnSpPr>
          <p:nvPr/>
        </p:nvCxnSpPr>
        <p:spPr>
          <a:xfrm flipV="1">
            <a:off x="5184360" y="4266720"/>
            <a:ext cx="1080" cy="1533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446" name=""/>
          <p:cNvSpPr/>
          <p:nvPr/>
        </p:nvSpPr>
        <p:spPr>
          <a:xfrm>
            <a:off x="5070600" y="403848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527800" y="3886200"/>
            <a:ext cx="380880" cy="38088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48" name=""/>
          <p:cNvCxnSpPr>
            <a:stCxn id="436" idx="2"/>
            <a:endCxn id="446" idx="1"/>
          </p:cNvCxnSpPr>
          <p:nvPr/>
        </p:nvCxnSpPr>
        <p:spPr>
          <a:xfrm>
            <a:off x="4041720" y="3809520"/>
            <a:ext cx="1029600" cy="343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49" name=""/>
          <p:cNvCxnSpPr>
            <a:stCxn id="429" idx="2"/>
            <a:endCxn id="432" idx="0"/>
          </p:cNvCxnSpPr>
          <p:nvPr/>
        </p:nvCxnSpPr>
        <p:spPr>
          <a:xfrm>
            <a:off x="1942920" y="3886200"/>
            <a:ext cx="108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990720" y="4876920"/>
            <a:ext cx="190476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TLMView1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51" name=""/>
          <p:cNvCxnSpPr>
            <a:stCxn id="432" idx="2"/>
            <a:endCxn id="450" idx="0"/>
          </p:cNvCxnSpPr>
          <p:nvPr/>
        </p:nvCxnSpPr>
        <p:spPr>
          <a:xfrm>
            <a:off x="1942920" y="4571640"/>
            <a:ext cx="1080" cy="305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Asynchronous Navigation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53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IE 4.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09480" y="2133720"/>
            <a:ext cx="251460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ShellBrows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914400" y="3429000"/>
            <a:ext cx="190512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edge1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56" name=""/>
          <p:cNvCxnSpPr>
            <a:stCxn id="455" idx="0"/>
            <a:endCxn id="457" idx="2"/>
          </p:cNvCxnSpPr>
          <p:nvPr/>
        </p:nvCxnSpPr>
        <p:spPr>
          <a:xfrm flipV="1">
            <a:off x="1866600" y="3199680"/>
            <a:ext cx="1080" cy="2293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457" name=""/>
          <p:cNvSpPr/>
          <p:nvPr/>
        </p:nvSpPr>
        <p:spPr>
          <a:xfrm>
            <a:off x="1752480" y="29718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752480" y="43434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59" name=""/>
          <p:cNvCxnSpPr>
            <a:stCxn id="454" idx="2"/>
            <a:endCxn id="457" idx="0"/>
          </p:cNvCxnSpPr>
          <p:nvPr/>
        </p:nvCxnSpPr>
        <p:spPr>
          <a:xfrm>
            <a:off x="1866600" y="2590920"/>
            <a:ext cx="1080" cy="381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60" name=""/>
          <p:cNvSpPr/>
          <p:nvPr/>
        </p:nvSpPr>
        <p:spPr>
          <a:xfrm>
            <a:off x="915840" y="2590920"/>
            <a:ext cx="752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_psv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828160" y="5029200"/>
            <a:ext cx="6232680" cy="16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4. Moniker sends a HTTP request to the serv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5. Server respond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6. Moniker create another HTML view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(Note that HTMLView1 is still UIActive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013200" y="3352680"/>
            <a:ext cx="190476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edge2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63" name=""/>
          <p:cNvCxnSpPr>
            <a:stCxn id="462" idx="0"/>
            <a:endCxn id="464" idx="2"/>
          </p:cNvCxnSpPr>
          <p:nvPr/>
        </p:nvCxnSpPr>
        <p:spPr>
          <a:xfrm flipV="1">
            <a:off x="3965040" y="3199680"/>
            <a:ext cx="1080" cy="1530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851280" y="29718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65" name=""/>
          <p:cNvCxnSpPr>
            <a:endCxn id="464" idx="1"/>
          </p:cNvCxnSpPr>
          <p:nvPr/>
        </p:nvCxnSpPr>
        <p:spPr>
          <a:xfrm>
            <a:off x="2936880" y="2590920"/>
            <a:ext cx="915120" cy="496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66" name=""/>
          <p:cNvSpPr/>
          <p:nvPr/>
        </p:nvSpPr>
        <p:spPr>
          <a:xfrm>
            <a:off x="2084400" y="2666880"/>
            <a:ext cx="1838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_psvPending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315200" y="4724280"/>
            <a:ext cx="380880" cy="3812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410080" y="3200400"/>
            <a:ext cx="381240" cy="38088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079880" y="4419720"/>
            <a:ext cx="205740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URL monik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70" name=""/>
          <p:cNvCxnSpPr>
            <a:stCxn id="469" idx="0"/>
            <a:endCxn id="471" idx="2"/>
          </p:cNvCxnSpPr>
          <p:nvPr/>
        </p:nvCxnSpPr>
        <p:spPr>
          <a:xfrm flipV="1">
            <a:off x="5108040" y="4266720"/>
            <a:ext cx="1080" cy="1533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471" name=""/>
          <p:cNvSpPr/>
          <p:nvPr/>
        </p:nvSpPr>
        <p:spPr>
          <a:xfrm>
            <a:off x="4994280" y="403848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924680" y="3962520"/>
            <a:ext cx="381240" cy="38088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73" name=""/>
          <p:cNvCxnSpPr>
            <a:stCxn id="462" idx="2"/>
            <a:endCxn id="471" idx="1"/>
          </p:cNvCxnSpPr>
          <p:nvPr/>
        </p:nvCxnSpPr>
        <p:spPr>
          <a:xfrm>
            <a:off x="3965400" y="3809520"/>
            <a:ext cx="1029600" cy="343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74" name=""/>
          <p:cNvCxnSpPr>
            <a:stCxn id="455" idx="2"/>
            <a:endCxn id="458" idx="0"/>
          </p:cNvCxnSpPr>
          <p:nvPr/>
        </p:nvCxnSpPr>
        <p:spPr>
          <a:xfrm>
            <a:off x="1866600" y="3886200"/>
            <a:ext cx="108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914400" y="4876920"/>
            <a:ext cx="190512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TLMView1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76" name=""/>
          <p:cNvCxnSpPr>
            <a:stCxn id="458" idx="2"/>
            <a:endCxn id="475" idx="0"/>
          </p:cNvCxnSpPr>
          <p:nvPr/>
        </p:nvCxnSpPr>
        <p:spPr>
          <a:xfrm>
            <a:off x="1866600" y="4571640"/>
            <a:ext cx="1080" cy="305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477" name=""/>
          <p:cNvSpPr/>
          <p:nvPr/>
        </p:nvSpPr>
        <p:spPr>
          <a:xfrm>
            <a:off x="6324480" y="464832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6324120" y="4419720"/>
            <a:ext cx="20574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162920" y="27432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324480" y="3276720"/>
            <a:ext cx="190512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TLMView2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81" name=""/>
          <p:cNvCxnSpPr>
            <a:stCxn id="479" idx="2"/>
            <a:endCxn id="480" idx="0"/>
          </p:cNvCxnSpPr>
          <p:nvPr/>
        </p:nvCxnSpPr>
        <p:spPr>
          <a:xfrm>
            <a:off x="7276680" y="2971440"/>
            <a:ext cx="1080" cy="305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482" name=""/>
          <p:cNvSpPr/>
          <p:nvPr/>
        </p:nvSpPr>
        <p:spPr>
          <a:xfrm rot="21537600">
            <a:off x="5638680" y="3505320"/>
            <a:ext cx="532080" cy="536400"/>
          </a:xfrm>
          <a:custGeom>
            <a:avLst/>
            <a:gdLst>
              <a:gd name="textAreaLeft" fmla="*/ 0 w 532080"/>
              <a:gd name="textAreaRight" fmla="*/ 532440 w 532080"/>
              <a:gd name="textAreaTop" fmla="*/ 0 h 536400"/>
              <a:gd name="textAreaBottom" fmla="*/ 536400 h 536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Asynchronous Navigation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4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IE 4.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85800" y="2133720"/>
            <a:ext cx="251460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ShellBrows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990720" y="3429000"/>
            <a:ext cx="190476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edge1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87" name=""/>
          <p:cNvCxnSpPr>
            <a:stCxn id="486" idx="0"/>
            <a:endCxn id="488" idx="2"/>
          </p:cNvCxnSpPr>
          <p:nvPr/>
        </p:nvCxnSpPr>
        <p:spPr>
          <a:xfrm flipV="1">
            <a:off x="1942920" y="3199680"/>
            <a:ext cx="1080" cy="2293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488" name=""/>
          <p:cNvSpPr/>
          <p:nvPr/>
        </p:nvSpPr>
        <p:spPr>
          <a:xfrm>
            <a:off x="1828800" y="29718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828800" y="43434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90" name=""/>
          <p:cNvCxnSpPr>
            <a:stCxn id="485" idx="2"/>
            <a:endCxn id="488" idx="0"/>
          </p:cNvCxnSpPr>
          <p:nvPr/>
        </p:nvCxnSpPr>
        <p:spPr>
          <a:xfrm>
            <a:off x="1942920" y="2590920"/>
            <a:ext cx="1080" cy="381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91" name=""/>
          <p:cNvSpPr/>
          <p:nvPr/>
        </p:nvSpPr>
        <p:spPr>
          <a:xfrm>
            <a:off x="992160" y="2666880"/>
            <a:ext cx="752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_psv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884680" y="5029200"/>
            <a:ext cx="5886720" cy="16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7. Moniker calls Wedge’s OnObjectAvailabl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8. Wedge2 gets the pointer to HTML view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9. Wedge2 notifies it to the brows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(Note that HTMLView1 is </a:t>
            </a:r>
            <a:r>
              <a:rPr b="0" i="1" lang="en-US" sz="2200" spc="-1" strike="noStrike">
                <a:solidFill>
                  <a:srgbClr val="ffffff"/>
                </a:solidFill>
                <a:latin typeface="Tahoma"/>
              </a:rPr>
              <a:t>still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UIActive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089160" y="3352680"/>
            <a:ext cx="190512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edge2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94" name=""/>
          <p:cNvCxnSpPr>
            <a:stCxn id="493" idx="0"/>
            <a:endCxn id="495" idx="2"/>
          </p:cNvCxnSpPr>
          <p:nvPr/>
        </p:nvCxnSpPr>
        <p:spPr>
          <a:xfrm flipV="1">
            <a:off x="4041360" y="3199680"/>
            <a:ext cx="1080" cy="1530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495" name=""/>
          <p:cNvSpPr/>
          <p:nvPr/>
        </p:nvSpPr>
        <p:spPr>
          <a:xfrm>
            <a:off x="3927600" y="29718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96" name=""/>
          <p:cNvCxnSpPr>
            <a:endCxn id="495" idx="1"/>
          </p:cNvCxnSpPr>
          <p:nvPr/>
        </p:nvCxnSpPr>
        <p:spPr>
          <a:xfrm>
            <a:off x="3013200" y="2590920"/>
            <a:ext cx="915120" cy="496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97" name=""/>
          <p:cNvSpPr/>
          <p:nvPr/>
        </p:nvSpPr>
        <p:spPr>
          <a:xfrm>
            <a:off x="2160360" y="2590920"/>
            <a:ext cx="1838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_psvPending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029200" y="3809880"/>
            <a:ext cx="380880" cy="3812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867280" y="3429000"/>
            <a:ext cx="381240" cy="38088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352680" y="4419720"/>
            <a:ext cx="205740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URL monik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01" name=""/>
          <p:cNvCxnSpPr>
            <a:stCxn id="500" idx="0"/>
            <a:endCxn id="502" idx="2"/>
          </p:cNvCxnSpPr>
          <p:nvPr/>
        </p:nvCxnSpPr>
        <p:spPr>
          <a:xfrm flipV="1">
            <a:off x="4381200" y="4266720"/>
            <a:ext cx="1080" cy="1533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502" name=""/>
          <p:cNvSpPr/>
          <p:nvPr/>
        </p:nvSpPr>
        <p:spPr>
          <a:xfrm>
            <a:off x="4267080" y="403848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03" name=""/>
          <p:cNvCxnSpPr>
            <a:stCxn id="493" idx="2"/>
            <a:endCxn id="502" idx="1"/>
          </p:cNvCxnSpPr>
          <p:nvPr/>
        </p:nvCxnSpPr>
        <p:spPr>
          <a:xfrm>
            <a:off x="4041720" y="3809520"/>
            <a:ext cx="226080" cy="343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04" name=""/>
          <p:cNvCxnSpPr>
            <a:stCxn id="486" idx="2"/>
            <a:endCxn id="489" idx="0"/>
          </p:cNvCxnSpPr>
          <p:nvPr/>
        </p:nvCxnSpPr>
        <p:spPr>
          <a:xfrm>
            <a:off x="1942920" y="3886200"/>
            <a:ext cx="108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990720" y="4876920"/>
            <a:ext cx="190476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TLMView1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06" name=""/>
          <p:cNvCxnSpPr>
            <a:stCxn id="489" idx="2"/>
            <a:endCxn id="505" idx="0"/>
          </p:cNvCxnSpPr>
          <p:nvPr/>
        </p:nvCxnSpPr>
        <p:spPr>
          <a:xfrm>
            <a:off x="1942920" y="4571640"/>
            <a:ext cx="1080" cy="305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507" name=""/>
          <p:cNvSpPr/>
          <p:nvPr/>
        </p:nvSpPr>
        <p:spPr>
          <a:xfrm>
            <a:off x="6477120" y="38862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638680" y="4419720"/>
            <a:ext cx="190512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TLMView2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09" name=""/>
          <p:cNvCxnSpPr>
            <a:stCxn id="507" idx="2"/>
            <a:endCxn id="508" idx="0"/>
          </p:cNvCxnSpPr>
          <p:nvPr/>
        </p:nvCxnSpPr>
        <p:spPr>
          <a:xfrm>
            <a:off x="6590880" y="4114440"/>
            <a:ext cx="1080" cy="305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510" name=""/>
          <p:cNvCxnSpPr>
            <a:stCxn id="493" idx="3"/>
            <a:endCxn id="507" idx="1"/>
          </p:cNvCxnSpPr>
          <p:nvPr/>
        </p:nvCxnSpPr>
        <p:spPr>
          <a:xfrm>
            <a:off x="4993920" y="3580920"/>
            <a:ext cx="1483560" cy="4201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511" name=""/>
          <p:cNvSpPr/>
          <p:nvPr/>
        </p:nvSpPr>
        <p:spPr>
          <a:xfrm>
            <a:off x="4800600" y="2743200"/>
            <a:ext cx="380880" cy="38088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 flipV="1">
            <a:off x="4343040" y="2666520"/>
            <a:ext cx="15228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 flipV="1">
            <a:off x="4571640" y="2819520"/>
            <a:ext cx="15228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14" name=""/>
          <p:cNvCxnSpPr>
            <a:stCxn id="512" idx="0"/>
            <a:endCxn id="513" idx="0"/>
          </p:cNvCxnSpPr>
          <p:nvPr/>
        </p:nvCxnSpPr>
        <p:spPr>
          <a:xfrm flipV="1">
            <a:off x="4495680" y="2818800"/>
            <a:ext cx="76680" cy="2293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515" name=""/>
          <p:cNvSpPr/>
          <p:nvPr/>
        </p:nvSpPr>
        <p:spPr>
          <a:xfrm flipH="1" flipV="1">
            <a:off x="4647960" y="3809520"/>
            <a:ext cx="15228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 flipV="1">
            <a:off x="4876560" y="3962520"/>
            <a:ext cx="15228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17" name=""/>
          <p:cNvCxnSpPr>
            <a:stCxn id="515" idx="0"/>
            <a:endCxn id="516" idx="0"/>
          </p:cNvCxnSpPr>
          <p:nvPr/>
        </p:nvCxnSpPr>
        <p:spPr>
          <a:xfrm flipV="1">
            <a:off x="4800600" y="3961800"/>
            <a:ext cx="76680" cy="2293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Asynchronous Navigation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9" name=""/>
          <p:cNvSpPr/>
          <p:nvPr/>
        </p:nvSpPr>
        <p:spPr>
          <a:xfrm>
            <a:off x="1752480" y="2133720"/>
            <a:ext cx="251460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ShellBrows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33520" y="3809880"/>
            <a:ext cx="190476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edge1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21" name=""/>
          <p:cNvCxnSpPr>
            <a:stCxn id="520" idx="0"/>
            <a:endCxn id="522" idx="2"/>
          </p:cNvCxnSpPr>
          <p:nvPr/>
        </p:nvCxnSpPr>
        <p:spPr>
          <a:xfrm flipV="1">
            <a:off x="1485720" y="3580560"/>
            <a:ext cx="1080" cy="2293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522" name=""/>
          <p:cNvSpPr/>
          <p:nvPr/>
        </p:nvSpPr>
        <p:spPr>
          <a:xfrm>
            <a:off x="1371600" y="335268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371600" y="472428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912760" y="5029200"/>
            <a:ext cx="5833080" cy="12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10. Deactivate and release the current view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11. Activate the Wedge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12. UIActivate HTMLView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089160" y="3352680"/>
            <a:ext cx="190512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edge2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26" name=""/>
          <p:cNvCxnSpPr>
            <a:stCxn id="525" idx="0"/>
            <a:endCxn id="527" idx="2"/>
          </p:cNvCxnSpPr>
          <p:nvPr/>
        </p:nvCxnSpPr>
        <p:spPr>
          <a:xfrm flipV="1">
            <a:off x="4041360" y="3199680"/>
            <a:ext cx="1080" cy="1530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527" name=""/>
          <p:cNvSpPr/>
          <p:nvPr/>
        </p:nvSpPr>
        <p:spPr>
          <a:xfrm>
            <a:off x="3927600" y="29718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28" name=""/>
          <p:cNvCxnSpPr>
            <a:endCxn id="527" idx="1"/>
          </p:cNvCxnSpPr>
          <p:nvPr/>
        </p:nvCxnSpPr>
        <p:spPr>
          <a:xfrm>
            <a:off x="3013200" y="2590920"/>
            <a:ext cx="915120" cy="496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529" name=""/>
          <p:cNvSpPr/>
          <p:nvPr/>
        </p:nvSpPr>
        <p:spPr>
          <a:xfrm>
            <a:off x="2592360" y="2666880"/>
            <a:ext cx="752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_psv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572000" y="2438280"/>
            <a:ext cx="380880" cy="3812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1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334120" y="3581280"/>
            <a:ext cx="380880" cy="3812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32" name=""/>
          <p:cNvCxnSpPr>
            <a:stCxn id="520" idx="2"/>
            <a:endCxn id="523" idx="0"/>
          </p:cNvCxnSpPr>
          <p:nvPr/>
        </p:nvCxnSpPr>
        <p:spPr>
          <a:xfrm>
            <a:off x="1485720" y="4267080"/>
            <a:ext cx="108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533520" y="5257800"/>
            <a:ext cx="190476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TLMView1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34" name=""/>
          <p:cNvCxnSpPr>
            <a:stCxn id="523" idx="2"/>
            <a:endCxn id="533" idx="0"/>
          </p:cNvCxnSpPr>
          <p:nvPr/>
        </p:nvCxnSpPr>
        <p:spPr>
          <a:xfrm>
            <a:off x="1485720" y="4952520"/>
            <a:ext cx="1080" cy="305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535" name=""/>
          <p:cNvSpPr/>
          <p:nvPr/>
        </p:nvSpPr>
        <p:spPr>
          <a:xfrm>
            <a:off x="4876920" y="403848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038480" y="4572000"/>
            <a:ext cx="190512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TLMView2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37" name=""/>
          <p:cNvCxnSpPr>
            <a:stCxn id="535" idx="2"/>
            <a:endCxn id="536" idx="0"/>
          </p:cNvCxnSpPr>
          <p:nvPr/>
        </p:nvCxnSpPr>
        <p:spPr>
          <a:xfrm>
            <a:off x="4990680" y="4266720"/>
            <a:ext cx="1080" cy="305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538" name=""/>
          <p:cNvCxnSpPr>
            <a:stCxn id="525" idx="2"/>
            <a:endCxn id="535" idx="1"/>
          </p:cNvCxnSpPr>
          <p:nvPr/>
        </p:nvCxnSpPr>
        <p:spPr>
          <a:xfrm>
            <a:off x="4041720" y="3809520"/>
            <a:ext cx="835920" cy="343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539" name=""/>
          <p:cNvSpPr/>
          <p:nvPr/>
        </p:nvSpPr>
        <p:spPr>
          <a:xfrm>
            <a:off x="1295280" y="2743200"/>
            <a:ext cx="381240" cy="380880"/>
          </a:xfrm>
          <a:prstGeom prst="ellipse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IE 4.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 flipV="1">
            <a:off x="4190760" y="2666520"/>
            <a:ext cx="15228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H="1" flipV="1">
            <a:off x="4419360" y="2819520"/>
            <a:ext cx="152280" cy="3808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41" idx="0"/>
            <a:endCxn id="542" idx="0"/>
          </p:cNvCxnSpPr>
          <p:nvPr/>
        </p:nvCxnSpPr>
        <p:spPr>
          <a:xfrm flipV="1">
            <a:off x="4343400" y="2818800"/>
            <a:ext cx="76680" cy="2293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544" name=""/>
          <p:cNvSpPr/>
          <p:nvPr/>
        </p:nvSpPr>
        <p:spPr>
          <a:xfrm flipH="1" flipV="1">
            <a:off x="5181480" y="3962520"/>
            <a:ext cx="15264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 flipV="1">
            <a:off x="5410080" y="4114800"/>
            <a:ext cx="152640" cy="3808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46" name=""/>
          <p:cNvCxnSpPr>
            <a:stCxn id="544" idx="0"/>
            <a:endCxn id="545" idx="0"/>
          </p:cNvCxnSpPr>
          <p:nvPr/>
        </p:nvCxnSpPr>
        <p:spPr>
          <a:xfrm flipV="1">
            <a:off x="5333760" y="4114080"/>
            <a:ext cx="76680" cy="2293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547" name=""/>
          <p:cNvSpPr/>
          <p:nvPr/>
        </p:nvSpPr>
        <p:spPr>
          <a:xfrm flipV="1">
            <a:off x="1828800" y="2819520"/>
            <a:ext cx="763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1905120" y="3048120"/>
            <a:ext cx="15228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49" name=""/>
          <p:cNvCxnSpPr>
            <a:stCxn id="547" idx="0"/>
            <a:endCxn id="548" idx="0"/>
          </p:cNvCxnSpPr>
          <p:nvPr/>
        </p:nvCxnSpPr>
        <p:spPr>
          <a:xfrm flipV="1">
            <a:off x="1828440" y="3047400"/>
            <a:ext cx="227880" cy="1530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550" name=""/>
          <p:cNvSpPr/>
          <p:nvPr/>
        </p:nvSpPr>
        <p:spPr>
          <a:xfrm>
            <a:off x="609480" y="3352680"/>
            <a:ext cx="1905120" cy="27432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H="1">
            <a:off x="533160" y="3352680"/>
            <a:ext cx="1904760" cy="281952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066680" y="7617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More Information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http://ohserv/users/satona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nt\private\shell\docs (\\trango\slmadd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"/>
          <p:cNvSpPr/>
          <p:nvPr/>
        </p:nvSpPr>
        <p:spPr>
          <a:xfrm>
            <a:off x="5410080" y="3564000"/>
            <a:ext cx="4114800" cy="4132080"/>
          </a:xfrm>
          <a:prstGeom prst="diamond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800000"/>
                </a:solidFill>
                <a:uFillTx/>
                <a:latin typeface="Garamond"/>
              </a:rPr>
              <a:t>   </a:t>
            </a:r>
            <a:r>
              <a:rPr b="0" lang="en-US" sz="4800" spc="-1" strike="noStrike" u="sng">
                <a:solidFill>
                  <a:srgbClr val="800000"/>
                </a:solidFill>
                <a:uFillTx/>
                <a:latin typeface="Garamond"/>
              </a:rPr>
              <a:t>SHIP IT! 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Garamond"/>
              </a:rPr>
              <a:t>Robustn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Garamond"/>
              </a:rPr>
              <a:t>Perform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Garamond"/>
              </a:rPr>
              <a:t>Bug fix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IE 4.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7617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Browser Evolution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How Win95 Explorer works 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ell Namespace, IShellFolder, pidl, IShellView, IShellBrows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How IE 3.0 browser work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cObje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How IE 4.0 browser work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bB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7772400" y="228600"/>
            <a:ext cx="1371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Topi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Advanced topics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Layout negotiation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How asynchronous navigation work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228600"/>
            <a:ext cx="1371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Topic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Shell Name Space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hell NameSpac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ierarchical name space, which the user can browse with the Shell Explorer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hell Item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tems in the shell name space -- drives, files, directories, servers, shares, MyComputer, ControlPanel, ControlPanel items, Printer Folder, Printer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WIN95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7617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IShellFolder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1905120"/>
            <a:ext cx="2514600" cy="8380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xplor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4120" y="1905120"/>
            <a:ext cx="2133360" cy="8380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hell Fold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stCxn id="107" idx="1"/>
            <a:endCxn id="109" idx="3"/>
          </p:cNvCxnSpPr>
          <p:nvPr/>
        </p:nvCxnSpPr>
        <p:spPr>
          <a:xfrm flipH="1">
            <a:off x="4723920" y="2323800"/>
            <a:ext cx="6105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09" name=""/>
          <p:cNvSpPr/>
          <p:nvPr/>
        </p:nvSpPr>
        <p:spPr>
          <a:xfrm>
            <a:off x="4495680" y="220968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33920" y="1676520"/>
            <a:ext cx="152388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ShellFold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3048120"/>
            <a:ext cx="7696080" cy="39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hellFolder allows you to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Enumerate items in it (returns pidls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Parse display name (name to pidl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Get display name (pidl to name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Bind to an ite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Get UI objects (menu, drop target, …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WIN95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What is a “pidl”? 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1752480"/>
            <a:ext cx="7696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An identifier of an item in the shell name space.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WIN95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05320" y="2971800"/>
            <a:ext cx="761760" cy="38088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b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2971800"/>
            <a:ext cx="221004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opaque bi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99760" y="2895480"/>
            <a:ext cx="1742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HITEMI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90920" y="3581280"/>
            <a:ext cx="175248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HITEMID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09120" y="3505320"/>
            <a:ext cx="90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ID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3581280"/>
            <a:ext cx="175248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HITEMID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5880" y="3581280"/>
            <a:ext cx="1371600" cy="38124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467480" y="3581280"/>
            <a:ext cx="609840" cy="38124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76680" y="4343400"/>
            <a:ext cx="4809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A pidl to “C:\tmp\foo.htm”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00200" y="4952880"/>
            <a:ext cx="609480" cy="38124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b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09680" y="4952880"/>
            <a:ext cx="16765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MyComput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86200" y="4952880"/>
            <a:ext cx="609480" cy="38124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b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5680" y="4952880"/>
            <a:ext cx="60984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:\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05520" y="4952880"/>
            <a:ext cx="609480" cy="38124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b3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15000" y="4952880"/>
            <a:ext cx="60948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mp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324480" y="4952880"/>
            <a:ext cx="609840" cy="38124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b4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934320" y="4952880"/>
            <a:ext cx="121896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oo.htm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153280" y="4952880"/>
            <a:ext cx="609840" cy="38124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41680" y="5791320"/>
            <a:ext cx="6189840" cy="550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Remember that pidls are opaque!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Binding to IShellFolder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WIN95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84400" y="3352680"/>
            <a:ext cx="2923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SF::BindToObjec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91120" y="3429000"/>
            <a:ext cx="609480" cy="38088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b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00600" y="3429000"/>
            <a:ext cx="16765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MyComput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724280" y="4876920"/>
            <a:ext cx="609840" cy="38088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b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4120" y="4876920"/>
            <a:ext cx="60948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:\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876920"/>
            <a:ext cx="609480" cy="38088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b3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553080" y="4876920"/>
            <a:ext cx="60984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mp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162920" y="4876920"/>
            <a:ext cx="609480" cy="38088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8120" y="2666880"/>
            <a:ext cx="2133360" cy="5335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esktop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45" idx="1"/>
            <a:endCxn id="147" idx="3"/>
          </p:cNvCxnSpPr>
          <p:nvPr/>
        </p:nvCxnSpPr>
        <p:spPr>
          <a:xfrm flipH="1">
            <a:off x="2437920" y="2933280"/>
            <a:ext cx="6105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47" name=""/>
          <p:cNvSpPr/>
          <p:nvPr/>
        </p:nvSpPr>
        <p:spPr>
          <a:xfrm>
            <a:off x="2209680" y="281952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3880" y="2362320"/>
            <a:ext cx="152424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ShellFold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 rot="10819800">
            <a:off x="1749960" y="4038120"/>
            <a:ext cx="533520" cy="536760"/>
          </a:xfrm>
          <a:custGeom>
            <a:avLst/>
            <a:gdLst>
              <a:gd name="textAreaLeft" fmla="*/ 360 w 533520"/>
              <a:gd name="textAreaRight" fmla="*/ 534240 w 533520"/>
              <a:gd name="textAreaTop" fmla="*/ 0 h 536760"/>
              <a:gd name="textAreaBottom" fmla="*/ 537120 h 536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57600" y="4191120"/>
            <a:ext cx="2133720" cy="53316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yComput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2" idx="3"/>
          </p:cNvCxnSpPr>
          <p:nvPr/>
        </p:nvCxnSpPr>
        <p:spPr>
          <a:xfrm flipH="1">
            <a:off x="3047400" y="4457520"/>
            <a:ext cx="610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52" name=""/>
          <p:cNvSpPr/>
          <p:nvPr/>
        </p:nvSpPr>
        <p:spPr>
          <a:xfrm>
            <a:off x="2819520" y="43434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09680" y="3886200"/>
            <a:ext cx="152424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ShellFold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794240" y="4800600"/>
            <a:ext cx="2923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SF::BindToObjec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5715000"/>
            <a:ext cx="2133720" cy="5335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:\tmp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6" name=""/>
          <p:cNvCxnSpPr>
            <a:stCxn id="155" idx="1"/>
            <a:endCxn id="157" idx="3"/>
          </p:cNvCxnSpPr>
          <p:nvPr/>
        </p:nvCxnSpPr>
        <p:spPr>
          <a:xfrm flipH="1">
            <a:off x="3656880" y="5981400"/>
            <a:ext cx="610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57" name=""/>
          <p:cNvSpPr/>
          <p:nvPr/>
        </p:nvSpPr>
        <p:spPr>
          <a:xfrm>
            <a:off x="3429000" y="586728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19520" y="5410080"/>
            <a:ext cx="1523880" cy="381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ShellFold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99440" y="1828800"/>
            <a:ext cx="3419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HGetDesktopFold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rot="10819800">
            <a:off x="2361600" y="5562720"/>
            <a:ext cx="533160" cy="536400"/>
          </a:xfrm>
          <a:custGeom>
            <a:avLst/>
            <a:gdLst>
              <a:gd name="textAreaLeft" fmla="*/ -360 w 533160"/>
              <a:gd name="textAreaRight" fmla="*/ 533160 w 533160"/>
              <a:gd name="textAreaTop" fmla="*/ 0 h 536400"/>
              <a:gd name="textAreaBottom" fmla="*/ 536400 h 536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77120" y="3429000"/>
            <a:ext cx="609480" cy="38088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ahoma"/>
              </a:rPr>
              <a:t>IShellBrowser / IShellView</a:t>
            </a:r>
            <a:endParaRPr b="0" lang="en-US" sz="4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7696080" y="228600"/>
            <a:ext cx="144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WIN95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00800" y="2362320"/>
            <a:ext cx="2438280" cy="53316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:\tmp (folder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5" name=""/>
          <p:cNvCxnSpPr>
            <a:stCxn id="164" idx="1"/>
            <a:endCxn id="166" idx="3"/>
          </p:cNvCxnSpPr>
          <p:nvPr/>
        </p:nvCxnSpPr>
        <p:spPr>
          <a:xfrm flipH="1">
            <a:off x="5790600" y="2628720"/>
            <a:ext cx="610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66" name=""/>
          <p:cNvSpPr/>
          <p:nvPr/>
        </p:nvSpPr>
        <p:spPr>
          <a:xfrm>
            <a:off x="5562720" y="25146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876920" y="2133720"/>
            <a:ext cx="152388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ShellFold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58960" y="3429000"/>
            <a:ext cx="3585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SF::CreateViewObjec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828800" y="1905120"/>
            <a:ext cx="2514600" cy="8380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Explorer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0" name=""/>
          <p:cNvCxnSpPr>
            <a:stCxn id="171" idx="0"/>
            <a:endCxn id="169" idx="2"/>
          </p:cNvCxnSpPr>
          <p:nvPr/>
        </p:nvCxnSpPr>
        <p:spPr>
          <a:xfrm flipV="1">
            <a:off x="3085920" y="2742840"/>
            <a:ext cx="108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71" name=""/>
          <p:cNvSpPr/>
          <p:nvPr/>
        </p:nvSpPr>
        <p:spPr>
          <a:xfrm>
            <a:off x="2971800" y="320040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828800" y="4724280"/>
            <a:ext cx="2514600" cy="8384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:\tmp (view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3" name=""/>
          <p:cNvCxnSpPr>
            <a:stCxn id="172" idx="0"/>
            <a:endCxn id="174" idx="2"/>
          </p:cNvCxnSpPr>
          <p:nvPr/>
        </p:nvCxnSpPr>
        <p:spPr>
          <a:xfrm flipV="1">
            <a:off x="3085920" y="4190400"/>
            <a:ext cx="1080" cy="5338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74" name=""/>
          <p:cNvSpPr/>
          <p:nvPr/>
        </p:nvSpPr>
        <p:spPr>
          <a:xfrm>
            <a:off x="2971800" y="3962520"/>
            <a:ext cx="228600" cy="2286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3200400"/>
            <a:ext cx="167652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ShellBrows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429000" y="4114800"/>
            <a:ext cx="137160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ShellView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0819200">
            <a:off x="4876560" y="3580560"/>
            <a:ext cx="531720" cy="536760"/>
          </a:xfrm>
          <a:custGeom>
            <a:avLst/>
            <a:gdLst>
              <a:gd name="textAreaLeft" fmla="*/ 0 w 531720"/>
              <a:gd name="textAreaRight" fmla="*/ 532080 w 531720"/>
              <a:gd name="textAreaTop" fmla="*/ 0 h 536760"/>
              <a:gd name="textAreaBottom" fmla="*/ 537120 h 536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1-08T00:46:50Z</dcterms:created>
  <dc:creator>Satoshi Nakajima</dc:creator>
  <dc:description/>
  <dc:language>en-US</dc:language>
  <cp:lastModifiedBy>Chris Guzak</cp:lastModifiedBy>
  <cp:lastPrinted>1996-11-08T18:59:09Z</cp:lastPrinted>
  <dcterms:modified xsi:type="dcterms:W3CDTF">1997-07-10T18:17:05Z</dcterms:modified>
  <cp:revision>28</cp:revision>
  <dc:subject/>
  <dc:title>IE 4.0 Shell Architecture</dc:title>
</cp:coreProperties>
</file>