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57200" y="640080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fld id="{29C65531-064E-4C26-94F8-81C53F2528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Internet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3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24591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99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02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05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10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34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6996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1152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44640" y="3056040"/>
            <a:ext cx="1722600" cy="563400"/>
            <a:chOff x="1844640" y="3056040"/>
            <a:chExt cx="1722600" cy="563400"/>
          </a:xfrm>
        </p:grpSpPr>
        <p:sp>
          <p:nvSpPr>
            <p:cNvPr id="142" name=""/>
            <p:cNvSpPr/>
            <p:nvPr/>
          </p:nvSpPr>
          <p:spPr>
            <a:xfrm>
              <a:off x="184464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207324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1788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840" y="4397400"/>
            <a:ext cx="57754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78480" y="3306600"/>
            <a:ext cx="3537000" cy="1296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92280" y="1409760"/>
            <a:ext cx="75153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Lots of tuning and minor features before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Development begins 4/1 based on Spyglass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8320" y="487980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-11592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07920" y="906480"/>
            <a:ext cx="716292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75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-361800"/>
            <a:ext cx="817236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Bug Summar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878120"/>
            <a:ext cx="6078600" cy="4052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90720" y="16002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ly 54 ACTIVE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/Setu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6480" y="1311120"/>
            <a:ext cx="71629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97040" y="1581120"/>
            <a:ext cx="7635960" cy="24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SMORG mail/new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ly developing catapult client in BSD since POSD baile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ffing for Gibraltar ‘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47800" y="1787400"/>
            <a:ext cx="7467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(content index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(Lea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v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0600" y="1481040"/>
            <a:ext cx="6481800" cy="3129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72400" y="1479600"/>
            <a:ext cx="18828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63640" y="2900520"/>
            <a:ext cx="73152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icrosoft Internet Server provides high-performance  information access and information publishing for organizations in an easy to use Internet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1760" y="13716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9040" y="1265400"/>
            <a:ext cx="83059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Web Security (SSL, S-HTT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0200" y="1206360"/>
            <a:ext cx="82249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 name, small business mail/n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O’hare to all Win95 languages except Catalan and Bas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ositioning statement unde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77760" y="1066680"/>
            <a:ext cx="71629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catapult clien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nternet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1760" y="1131840"/>
            <a:ext cx="8921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NT 3.5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gates</dc:creator>
  <dc:description/>
  <dc:language>en-US</dc:language>
  <cp:lastModifiedBy>peteo</cp:lastModifiedBy>
  <cp:revision>0</cp:revision>
  <dc:subject/>
  <dc:title>BSD Internet Review</dc:title>
</cp:coreProperties>
</file>