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0" y="6540480"/>
            <a:ext cx="913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fld id="{47614C7A-28CD-4802-B8B4-AC3A0BD1307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25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3182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User Ed Publishing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447920"/>
            <a:ext cx="7162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HTML (authored w/ Wo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ekly Internet Magazine (on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bo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TML and .mdb for beginners, administrators, and security fol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ccess to Microsoft-maintained versions of do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 Guide &amp; Win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Content as MSPress books or doc S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Plan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2760" y="2133720"/>
            <a:ext cx="1390680" cy="1847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440" y="2546280"/>
            <a:ext cx="1879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ekly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e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Ezi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156204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05280" y="121932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0760" y="1257480"/>
            <a:ext cx="0" cy="57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5960" y="1612800"/>
            <a:ext cx="1716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ta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705040"/>
            <a:ext cx="4762440" cy="2685960"/>
          </a:xfrm>
          <a:prstGeom prst="rect">
            <a:avLst/>
          </a:prstGeom>
          <a:solidFill>
            <a:srgbClr val="00279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12920" y="2260440"/>
            <a:ext cx="20210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ibraltar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05640" y="22096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34280" y="2057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34280" y="369576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96360" y="369576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96360" y="207648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4578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30524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48400" y="5943600"/>
            <a:ext cx="19080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10480" y="594360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10480" y="4324320"/>
            <a:ext cx="1526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98920" y="1041480"/>
            <a:ext cx="1733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80280" y="1612800"/>
            <a:ext cx="14367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S-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33840" y="2952720"/>
            <a:ext cx="203832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37080" y="3079800"/>
            <a:ext cx="19699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5960" y="3200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33680" y="304812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68648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6680" y="468648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76680" y="306720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00880" y="4381560"/>
            <a:ext cx="125748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75480" y="4568760"/>
            <a:ext cx="9399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19400" y="4305240"/>
            <a:ext cx="1238400" cy="7621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md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2600" y="1650960"/>
            <a:ext cx="1784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t Micro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93800" y="3216240"/>
            <a:ext cx="10447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 100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56600" y="2149560"/>
            <a:ext cx="102888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489800" y="4435560"/>
            <a:ext cx="10731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g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bli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5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5120" y="1809720"/>
            <a:ext cx="1981080" cy="34308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62480" y="201924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196200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19840" y="1809720"/>
            <a:ext cx="476280" cy="2667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05280" y="95256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62720" y="2114640"/>
            <a:ext cx="0" cy="8380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695760"/>
            <a:ext cx="0" cy="6667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695760"/>
            <a:ext cx="0" cy="6285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1760" y="1131840"/>
            <a:ext cx="892188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3.51), patent application unde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, modeled after traditional Unix mechanism for ease-of-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146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49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52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57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83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86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91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92280" y="1409760"/>
            <a:ext cx="787248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In use within dev team - lots of tuning and minor features before larger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Investing ~8 weeks of cleanup in SpyGlass code (make it un-embarras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60020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Extensions and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tool is HAPI, a script driven network testing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test dll (wrapper of wininet.dll) with custom keyword and type defin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scripts for all exposed Internet application protocols (gopher, http, ftp, arch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ests to be run native and through catapult gatew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stress ap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will undergo much usage testing on WFW (Win32s), Win95, and Windows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6002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driven by client-based test scripts to ensure con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client-based stress applications to ensure robus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existing Interne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nd local administration, setup and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85640" y="212760"/>
            <a:ext cx="8172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01760" y="868320"/>
            <a:ext cx="7162920" cy="56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(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(75% 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nd Administration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testing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Gateway stress starting s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roll-out underway in M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Monthly Top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01880" y="12654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, Schedules and Staffing (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, APIs, SmallPr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,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,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Architecture, 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/Management/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v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Office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braltar ‘97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chedul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59320" y="1525680"/>
            <a:ext cx="3162240" cy="2643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iza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iday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0720" y="1343160"/>
            <a:ext cx="3976560" cy="3081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TNetDev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/7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G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/1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5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09600" y="5075280"/>
            <a:ext cx="71978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1 omitted functiona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NS namespace editor, performance work, some browser cleanup, generalized SmallProx, SNM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2 full function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06480" y="13111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 (BGI de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 (live SQL Server on \\ntra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(Local Access .M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 Demo (OFS qu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(using NetSca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penden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49360" y="1133640"/>
            <a:ext cx="814716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e on the hook f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NTP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95 client from PS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 extending Catapult for organization access to MS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‘95 requires Catapult APIs for Internet Assistant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pen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76160" y="1133640"/>
            <a:ext cx="7635960" cy="52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to get Word ‘95/Internet Assistant 2.0 in-the-box (use 32-bit Word6 for non-Int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court third parties for gateway application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is to depend/support third parties for a 1.0 SSL/S-HTTP solution to reduce product complexity and pull in 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good SMORG mail/news story w/ Exchange-only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: can we ship a crippled 3rd party indexer pre-Cair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Backup Sl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NT Raid ODBC Gateway 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Weekly Internet Magaz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1600200"/>
            <a:ext cx="716292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y begins 6/1 using Gibraltar pre-beta software on internet.microsoft.com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ustomers,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v, Test, UE, PSS, all interact on the same compu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diate feedback on concept emphasis, documentation style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154320" y="955800"/>
            <a:ext cx="32828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ultimate dog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7600" y="1066680"/>
            <a:ext cx="716292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format is HTML using browser on local files or internet.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ner’s Guide to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’s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imer and Hand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ation and Orientation Guide &lt; 100 p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or UI (UI on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upplemental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3000" y="110484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Gibraltar HTML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info in book is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Press or Doc 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ing Windows NT Internet Server (1000 pages, includes security 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n the Internet for Beginners (350 pag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08200" y="1542960"/>
            <a:ext cx="74674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OLE/DB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and Catalog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L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52360" y="1357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Catapult Policy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 Wiz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logging for billing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M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Microsoft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 Scripting/OLE automati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integration (publishing, autho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APIs v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764400" y="77004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035080" y="130320"/>
            <a:ext cx="67406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39720" y="2930400"/>
            <a:ext cx="75992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-performance publishing and access server that provides a window for getting information to and from the Internet for organizations of all siz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1.0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1520" y="12384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265400"/>
            <a:ext cx="83059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 o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Document Security (SSL, S-HTT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rce support (ST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 - 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, NetSite Commerc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 (SW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600" y="939960"/>
            <a:ext cx="822492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/component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Still under investigation, at minimum will follow server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 (prelimin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 performance publishing and access server that provides a window for getting information to and from the Internet for organizations of all size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42840" y="1122480"/>
            <a:ext cx="71629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per catapult client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ed - DEC, NEC, Intel, Gateway, Tan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riefing 6/1/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Gibraltar (Internet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BSD Internet Review 4/25</dc:title>
</cp:coreProperties>
</file>