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erver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ly 13,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 Schedule (unchang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59320" y="1982880"/>
            <a:ext cx="3162240" cy="2643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blization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iday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C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0720" y="2028960"/>
            <a:ext cx="3976560" cy="22050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/15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/1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C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/1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/15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81000" y="4998960"/>
            <a:ext cx="7629480" cy="14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a1 omitted functiona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NS editor, Catapult domain filtering, remote setup, unattended setup, Win95 admin tool, licensing, WfW discovery, BGI changes, DNS round-robin/perfmon/SNMP, generalized SmallPr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a2 full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38088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a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50 US, 150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RG/MORG40%, Solution Providers 20%, Service Providers 15%, ISV’s 15% SORG 1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hedule ri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fW client (RPC iss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covery protocol (mile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 administration (mile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525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82880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509 certificate includes DNS name. Server gives RSA-signed certificate to client to create session keys. Client relies on DNS/IP to authenticate server. Cannot decrypt session w/o server private key, but may spoof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cheduled work, given a full SSPI/SSL provider probably 3 man-weeks in Web server code (+ test expos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ve work for SSL catapult support (effectively remotable WinS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2120" y="38088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alA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N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otable WinS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change/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tive IPX support for publi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762120" y="38088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2133720"/>
            <a:ext cx="63244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form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6212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Performance (We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784760" y="6499080"/>
            <a:ext cx="4324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 NCSA release 1.4 should be significantly fas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3360" y="1676520"/>
            <a:ext cx="7931160" cy="2008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17520" y="4038480"/>
            <a:ext cx="65548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38088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Beta Performanc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ceptEx(): Collapses accept(), ReadFile(), getsockname() into a single API consistant w/ NT async I/O model. Tuned for use w/ TransmitFile(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ching user tok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alesce heap al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tpath instruction tuning (system calls, LEGO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38088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Ex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144792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ceptEx() + TransmitFile() changes sa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 least 8 kernel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heap al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cket handle open/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pect ~30% performance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itial tests show 100% improvement in traditional WinSock call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ease plan: Fall NT SDK/CSD, notify NT Web vendors when code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76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lout (Publish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1581120"/>
            <a:ext cx="769608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ww.microsof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ww.msn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95 launch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site dev support for Vivid (2 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5 internal Web server “experiments” (at least 3 BGI efforts under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pha (internal) release available end-of-week, expect 25 mor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38088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pult Rollou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1428840"/>
            <a:ext cx="716292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systems 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86/50 UP 32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90 QP 16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verage CPU load: 60-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ly 11: 782 unique users, 350 unique sites, 140 peak concurrent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st week: 1189 total unique users, 6929 unique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38088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pult Rollou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7753320" cy="42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G Meeting 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ll limit Gauntlet to O’Hare test (bldg 5/6 only)+Te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 will add ~120 VP-sponsored users to our pilot nex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G will refer key users (w/ VP approval) to our Catapult pilot through ~8/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llowing beta, ITG will begin to manage some servers, start killing direct taps (where not specifically nee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38088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175248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roximately 2 weeks behind on sche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rnal alpha release this week (publishing, setup, admin on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’Hare support in SmallPr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b server-side include functionality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 discovery nex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gates</dc:creator>
  <dc:description/>
  <dc:language>en-US</dc:language>
  <cp:lastModifiedBy>bill gates</cp:lastModifiedBy>
  <cp:revision>0</cp:revision>
  <dc:subject/>
  <dc:title>Internet Server Review</dc:title>
</cp:coreProperties>
</file>