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15,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away from code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in IExplore 2.0 (Nov rele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est plan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ion in Gib 1.0 means 1+ month s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OR: “PCT-enable” Web server, ship PCT DLL when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/PC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mplementation is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+ ms/req for session setup, 34 all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s about to be checked in: expect 50%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4 40-bit is ~11 instructions/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s stored as LSA secrets per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ed as an SSPI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 calls SECURITY.DLL, it calls SSPISSL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T provider implemented in same DLL, share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use of CAPI today, future may use CAPI for some crypto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raltar Bu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50840" y="1266840"/>
            <a:ext cx="67690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Internet Information Server Bugs: Priorit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 Starting    -----Transactions---- | ----Current Status----  Res: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day           New  Resolved  Closed | Active+Resolved = Open  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13-Nov 15      4       5       1   |   17       10      27     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ly Summary: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6 -Nov 12     16       6       9   |   18        6      24     0.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30-Nov 5      19      27      30   |    8        9      17     1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23-Oct 29     12      19      13   |   16       12      28     1.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16-Oct 22      4       5       5   |   23        6      29     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Internet Information Server B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 Starting    -----Transactions---- | ----Current Status----  Res: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day           New  Resolved  Closed | Active+Resolved = Open  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13-Nov 15      4       7       1   |   47       15      62     1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ly Summary: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6 -Nov 12     25      10      13   |   50        9      59     0.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30-Nov 5      22      37      42   |   35       12      47     1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23-Oct 29     20      22      17   |   50       17      67     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16-Oct 22      5      10      13   |   52       12      64     2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 Bu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50840" y="1266840"/>
            <a:ext cx="67690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Internet Access Server Bugs: Priorit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 Starting    -----Transactions---- | ----Current Status----  Res: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day           New  Resolved  Closed | Active+Resolved = Open  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13-Nov 15     10       9       0   |    9       11      20     0.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ly Summary: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6 -Nov 12      4       1      11   |    8        2      10     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30-Nov 5      16      32      36   |    5       12      17     2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23-Oct 29     18      15      11   |   21       16      37     0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16-Oct 22     12      15       5   |   18       12      30     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Internet Access Server B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 Starting    -----Transactions---- | ----Current Status----  Res: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day           New  Resolved  Closed | Active+Resolved = Open  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13-Nov 15     14      10       0   |   54       16      70     0.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ly Summary: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6 -Nov 12      6       1      14   |   50        6      56     0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30-Nov 5      23      39      60   |   45       19      64     1.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23-Oct 29     28      20      21   |   61       40     101     0.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16-Oct 22     27      24      23   |   53       41      94     0.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Component Bug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50840" y="1266840"/>
            <a:ext cx="67690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Client, Client Setup, Admin Bugs: Priority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 Starting    -----Transactions---- | ----Current Status----  Res: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day           New  Resolved  Closed | Active+Resolved = Open  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13-Nov 15      9       4       4   |   27        5      32     0.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ly Summary: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6 -Nov 12     11      11      15   |   22        5      27     1.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30-Nov 5      12      20      21   |   22        9      31     1.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23-Oct 29     13      11      11   |   30       10      40     0.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16-Oct 22      8      13       3   |   28       10      38     1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Client, Client Setup, Admin Bu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 Starting    -----Transactions---- | ----Current Status----  Res: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nday           New  Resolved  Closed | Active+Resolved = Open  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13-Nov 15     18       8       5   |   77       11      88     0.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ekly Summary: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v 6 -Nov 12     22      16      20   |   67        8      75     0.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30-Nov 5      14      27      35   |   61       12      73     1.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23-Oct 29     25      13      13   |   74       20      94     0.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ct 16-Oct 22     10      23      13   |   62       20      82     2.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arket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673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673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2 Press Rel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673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Dev. Web 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673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rs To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16/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673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 Beta CD Distrib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r" pos="67388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trategy D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: Trophy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Strategic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s/Gov’t., ISPs, ICPs, Academic, Channel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, software (Gibraltar &amp; SQL Server), onsite installation &amp; custo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hy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momentum &amp; mind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great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packaged services, resource kit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field SE and SP expertise/experi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in the way of the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feedback loop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roduc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hy Ac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al/Need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M Partner (DEC most like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k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nb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nst &amp;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nes &amp; No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ney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c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raltar Projec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/PCT status and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Plans/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meer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meer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raltar Projec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2 RTM’ed on Friday, 11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ning on www.microsoft.com, www.nba.com (Starw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ing Gibraltar 1.0 Work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ensing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testing/t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Pack 3 (ReadDirectoryChanges A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 not fixed for Bet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T-enabling of We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bit “automatic” setup (change directory to correct plat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ing Gibraltar 1.0 Work Items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s i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 billboards for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QF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S verification/tes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SAPI SDK delivery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kie and Referrer featuret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etup Wiz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Remaining Gibraltar Work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mbed” trial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download version, work done post-R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Kit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Respons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hy”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up the Perf Benchmark (MiWE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revei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ownlo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Deliver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l perf improvements, 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xe is 60% faster than pr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dll is working, but some issues not yet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b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ing (Mediaview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xplore ‘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on Catapult Beta 2: expected RTM in 1-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uttle dev team will be ready for this beta, but doc/PSS/test issues r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ting having Haifa team implement “Remotable Winsock” for produc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3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d in Bet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certificate process in place with Verisign: 100 beta c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config tools are limited: command-lin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 testing forthco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working on a public Internet SLL test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export ver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j. allard</cp:lastModifiedBy>
  <cp:revision>0</cp:revision>
  <dc:subject/>
  <dc:title>Internet Server Review</dc:title>
</cp:coreProperties>
</file>