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90360" y="6485040"/>
            <a:ext cx="1646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urali R. Krishn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B9C97919-AB15-419C-8324-323875DB984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ecure internet Communications using So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urali R. Krishn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24360" y="5029200"/>
            <a:ext cx="3097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crosoft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and Winsock 2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Proposed by Net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socket options for authentication and encryption rel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lications can use getsockopt() and setsockopt() for querying and setting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es Winsock 2.0 standards committee permit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and Winsock 2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dfca"/>
                </a:solidFill>
                <a:latin typeface="Arial"/>
                <a:ea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ple; applications need to use only one set of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pendency on RSA encryption and authentication (hard coded op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ow to obtain authentication -- left to user level hook (not specified in stand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ecifies interface for security support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rgetted at Distributed systems and RPC runtime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es not specify its relation to socket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Wssa &amp; C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sa: Windows Secure Sockets API -- same as SSL interface and uses ssl imple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PI: Crypto API --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What should new interface provid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ple interface supporting security and transport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e Scalable. Extensions to support transports and security schemes should be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roperability of the different schemes adopted (unless it is open schem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What should new interface provide? (con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uthentication and Encrypted data should be decipherable independent of platform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ort communicating with multiple peers with different schemes for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ow easy layering of user level protocols (http, ftp, ..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opt SSL as-is-it-now 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y royalty to Netscape happi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    [DevTime = 4 weeks. Maintenance = ?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mplement our own SSL compliant DLL, but use authentication and encryption packages from 3rd party ( trustable?)   [DevTime = 3 months. Maintenance = ?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1981080"/>
            <a:ext cx="7848720" cy="461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mplement our own SSL compliant DLL (or maybe like Wssa), as well as implement authentication and encryption packages (in kernel mode possibly, speed ==$$)  [ DevTime = 6 months. Maybe long for Winsock 2.0 based imp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ecify a new interface separately for security, evangelize and implement it; Couple this with Winsock. [ DevTime = 6-12 month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474747"/>
                </a:solidFill>
                <a:latin typeface="Book Antiqua"/>
                <a:ea typeface="Book Antiqua"/>
              </a:rPr>
              <a:t>SARC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38360" y="2144880"/>
            <a:ext cx="64389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ARC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wo pronged approach - separate API set for security (extensions of SSPI possibly) and retain/enhance Winsock for raw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e the API set open to enable scalability and inter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lications will run on SARC API (esp. htt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Goals for thi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isting communication interfaces (Winsock, SSL, SSPI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posed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Discus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is our strategy? and what is corporate-wide strate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is our long term and short term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time to talk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Current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s/TCP is used for internet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lication protocol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tt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ftp, gopher need to be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modifications of application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e interoperable, secure and sca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Wins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rived from Berkeley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exible and simple API virtualizing tran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es not support options for any authentication or encyption of transported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: Secure Sockets Layer</a:t>
            </a: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495680"/>
            <a:ext cx="3200400" cy="8380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00400" y="4724280"/>
            <a:ext cx="19051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2362320"/>
            <a:ext cx="4800600" cy="8380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124080" y="2514600"/>
            <a:ext cx="3657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t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32004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32004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43434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971800"/>
            <a:ext cx="1219320" cy="2209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4267080"/>
            <a:ext cx="914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3809880"/>
            <a:ext cx="1371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2120" y="160020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3581280"/>
            <a:ext cx="1523880" cy="762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971800" y="3733920"/>
            <a:ext cx="9907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33720" y="3733920"/>
            <a:ext cx="60948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SL defines a separate set of functions for handling I/O (masks socke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t all socket functions are repli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orts only TC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s 3rd party (RSA, PKCS) software for authentication and encry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Pr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dfca"/>
                </a:solidFill>
                <a:latin typeface="Arial"/>
                <a:ea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ts on top of sockets, providing socket like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dfca"/>
                </a:solidFill>
                <a:latin typeface="Arial"/>
                <a:ea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s public key encryption offering secu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dfca"/>
                </a:solidFill>
                <a:latin typeface="Arial"/>
                <a:ea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ows unencrypted and unauthenticated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Cons  :(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pends on 3rd party software for encryption and 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support for adding/modifying authentication and encryption sc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ly runs over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pends on centralized certificate issuer (currently Netscape) for 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cons :(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es not support multiple client/server connections within same process (relevant for catapul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rali R. Krishnan</dc:creator>
  <dc:description>This presentation was prepared for talk on Wednesday, 14 June, 1995 to discuss about secure communication strategy for our internet related products.</dc:description>
  <dc:language>en-US</dc:language>
  <cp:lastModifiedBy>Murali R. Krishnan</cp:lastModifiedBy>
  <cp:revision>0</cp:revision>
  <dc:subject>Secure Communications</dc:subject>
  <dc:title>Secure And Reliable Communication using Sockets</dc:title>
</cp:coreProperties>
</file>