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839325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377361-08C6-40D9-A65E-3D1F8209E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rawing shadowed boxes with PowerPoint is easy.  Simply use the Rectangle tool to draw the box and then choose Shadowed from the Draw men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 sure to delete this word processing box before using this template for your own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95360" y="1438200"/>
            <a:ext cx="8839080" cy="5238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23960" y="6737400"/>
            <a:ext cx="177336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782200" y="6737400"/>
            <a:ext cx="3366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80E733BF-840C-473E-8C15-C9530F351E82}" type="slidenum"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95360" y="295200"/>
            <a:ext cx="8839080" cy="990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409760" y="1438200"/>
            <a:ext cx="304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95360" y="600120"/>
            <a:ext cx="8839080" cy="6076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862520" y="968400"/>
            <a:ext cx="10476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247840" y="2124000"/>
            <a:ext cx="5257800" cy="1535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/2 on Windows on 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96160" y="5629320"/>
            <a:ext cx="2057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915240" y="5616720"/>
            <a:ext cx="19764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ron Sham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1636560" y="460440"/>
            <a:ext cx="61340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 1: 16 bit non-PM AP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86080" y="1895400"/>
            <a:ext cx="6095880" cy="26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16bit OS2 1.X , non-PM (VIO) apps, inside a character wind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supported  (in addition to general restrictions): N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s that can run: WORD5.5, Paradox, Rbase, PWB, SQ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1103400" y="460440"/>
            <a:ext cx="79470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2: PM in a separate screen group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562040" y="1514520"/>
            <a:ext cx="6095880" cy="41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'Frame for PM applications' - not a system of it's own - no separate PM file manager, print manager, control panel etc. Support 16bit and 32bit clean PM bin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supported (in addition to general restrictions): Clipboard, DDE between PM apps and Windows ap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 that can run: PM-WORD, PM-EXCEL, 123G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1636560" y="460440"/>
            <a:ext cx="662796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3: PM/WIN share the g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86080" y="1895400"/>
            <a:ext cx="6095880" cy="24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S2 and Windows app sharing the glass and communicating with each other. Clean PM apps unmodified (binar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supported (in addition to general restrictions): N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1865160" y="460440"/>
            <a:ext cx="54054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 1: Work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066680" y="1587600"/>
            <a:ext cx="8128080" cy="332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rgely code complete. See sched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 to be d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LS+DBCS, map on Uni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ete LM support (NetBios, Mailslot, NetAP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nter mapping to Win/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ss 100% of the relevant os/2 1.21 component te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1865160" y="460440"/>
            <a:ext cx="51642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2: Work Summa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914400" y="1434960"/>
            <a:ext cx="7442280" cy="66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 level design is do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 Win32 GDI/USER and NT kernel hoo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PM "takeover" by hotke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rt role-over of development staff April 199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ify 16b PM code to be "cleaner" (CLI, IOP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e hooks with WIN32 for clean stwit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ete private base API to support loading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6b P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re Configuration APIs (os2sys.ini, os2.in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e with Spooler, Sh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1865160" y="460440"/>
            <a:ext cx="51642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3: Work Summa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143000" y="1739880"/>
            <a:ext cx="7647120" cy="457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us: not star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and implement hooks to sup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MWIN on top of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mplement PM frame windows as WIN32 wind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DE, Clipboard, metafile trans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from Win/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R /INPUT hook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ognize PM-flav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ndows, pass input to PM for th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sk manager to include PM ap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171520" y="460440"/>
            <a:ext cx="371808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Statement of Go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486080" y="1895400"/>
            <a:ext cx="6095880" cy="45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ow corporate customers developing OS/2 and PM applications to run those applications under WIN32/NT, in the same screen group as native WIN32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 so by only placing 'reasonable' restrictions on both 16 and 32 bit applic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s that satisfy restrictions will run binary on X86 platform. Recompile 32 bit apps for RIS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941480" y="536400"/>
            <a:ext cx="657216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tions on OS2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714680" y="1743120"/>
            <a:ext cx="609588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mixed 16/32 bit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direct HW manip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Port private device driv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No ring 2 code -&gt; no IOPL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No access to physical video buffer.          VIO apps run inside a character wind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86 on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560600" y="231840"/>
            <a:ext cx="50418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/NT Block 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1680" y="3876840"/>
            <a:ext cx="4800600" cy="11430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71680" y="1438200"/>
            <a:ext cx="1905120" cy="1676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743040" y="1577880"/>
            <a:ext cx="1081080" cy="16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933640" y="2352600"/>
            <a:ext cx="1828800" cy="7621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105000" y="2340000"/>
            <a:ext cx="16146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 Cli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857680" y="1209600"/>
            <a:ext cx="2819520" cy="6858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29040" y="1425600"/>
            <a:ext cx="235728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/2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1680" y="3571920"/>
            <a:ext cx="5790960" cy="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-70200" bIns="-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790640" y="3952800"/>
            <a:ext cx="1600200" cy="3049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886040" y="3863880"/>
            <a:ext cx="9428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P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333440" y="395280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33440" y="319104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000680" y="319104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81560" y="31910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000680" y="1971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19640" y="1971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91000" y="3787920"/>
            <a:ext cx="170496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1000" y="2797200"/>
            <a:ext cx="144792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114640" y="4473720"/>
            <a:ext cx="18716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 Execu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76240" y="319104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560600" y="460440"/>
            <a:ext cx="54990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32/OS2 Server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160" y="1438200"/>
            <a:ext cx="9677520" cy="57913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00280" y="1590840"/>
            <a:ext cx="41911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66960" y="2657520"/>
            <a:ext cx="2209680" cy="12193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419200" y="3025800"/>
            <a:ext cx="121932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W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52760" y="4486320"/>
            <a:ext cx="2286000" cy="10666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04840" y="4486320"/>
            <a:ext cx="1143000" cy="9907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76240" y="6010200"/>
            <a:ext cx="2286000" cy="8380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352520" y="4778280"/>
            <a:ext cx="6476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29040" y="4778280"/>
            <a:ext cx="123840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G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71640" y="6302520"/>
            <a:ext cx="154296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381560" y="2657520"/>
            <a:ext cx="685800" cy="1295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476600" y="2949480"/>
            <a:ext cx="4618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476600" y="3406680"/>
            <a:ext cx="4478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53160" y="2657520"/>
            <a:ext cx="2819520" cy="152388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67360" y="6010200"/>
            <a:ext cx="1752480" cy="91440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267760" y="6010200"/>
            <a:ext cx="1447920" cy="99072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34040" y="4714920"/>
            <a:ext cx="1600200" cy="99072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72480" y="6010200"/>
            <a:ext cx="1143000" cy="91440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686640" y="3102120"/>
            <a:ext cx="9190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381720" y="5083200"/>
            <a:ext cx="1220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543640" y="6302520"/>
            <a:ext cx="68112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010120" y="6226200"/>
            <a:ext cx="10476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067520" y="6302520"/>
            <a:ext cx="10526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591400" y="6302520"/>
            <a:ext cx="9050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52560" y="212400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09760" y="212400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428840" y="2111400"/>
            <a:ext cx="10476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657440" y="1654200"/>
            <a:ext cx="134316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 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48240" y="1590840"/>
            <a:ext cx="4114800" cy="4572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458040" y="1654200"/>
            <a:ext cx="18050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3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857680" y="2124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86480" y="2124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162240" y="4029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324160" y="50958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905440" y="380052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219640" y="3876840"/>
            <a:ext cx="1219320" cy="914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676840" y="2124000"/>
            <a:ext cx="0" cy="3810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24760" y="2124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105840" y="2048040"/>
            <a:ext cx="0" cy="3962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734240" y="5553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886880" y="4257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362640" y="562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571840" y="1044720"/>
            <a:ext cx="279576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plit screen grou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1560600" y="460440"/>
            <a:ext cx="54990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32/OS2 Server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160" y="1438200"/>
            <a:ext cx="9677520" cy="57913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00280" y="1590840"/>
            <a:ext cx="41911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66960" y="2581200"/>
            <a:ext cx="2209680" cy="12193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419200" y="3025800"/>
            <a:ext cx="121932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W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52760" y="4486320"/>
            <a:ext cx="2286000" cy="10666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104840" y="4486320"/>
            <a:ext cx="1143000" cy="9907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76240" y="6010200"/>
            <a:ext cx="2286000" cy="8380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352520" y="4778280"/>
            <a:ext cx="6476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29040" y="4778280"/>
            <a:ext cx="123840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G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971640" y="6302520"/>
            <a:ext cx="154296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381560" y="3267000"/>
            <a:ext cx="685800" cy="9144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476600" y="3330720"/>
            <a:ext cx="46188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753160" y="2657520"/>
            <a:ext cx="2819520" cy="152388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695760" y="5934240"/>
            <a:ext cx="3124080" cy="106668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267760" y="6010200"/>
            <a:ext cx="1447920" cy="99072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34040" y="4714920"/>
            <a:ext cx="1600200" cy="99072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972480" y="6010200"/>
            <a:ext cx="1143000" cy="91440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686640" y="3102120"/>
            <a:ext cx="9190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6381720" y="5083200"/>
            <a:ext cx="1220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248000" y="6226200"/>
            <a:ext cx="68112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5010120" y="6226200"/>
            <a:ext cx="9874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D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7067520" y="6302520"/>
            <a:ext cx="10526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8515440" y="6302520"/>
            <a:ext cx="9050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52560" y="212400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09760" y="212400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428840" y="2111400"/>
            <a:ext cx="10476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657440" y="1654200"/>
            <a:ext cx="134316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 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448240" y="1590840"/>
            <a:ext cx="4114800" cy="4572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458040" y="1654200"/>
            <a:ext cx="18050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3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857680" y="2124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686480" y="21240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24360" y="5629320"/>
            <a:ext cx="0" cy="533520"/>
          </a:xfrm>
          <a:prstGeom prst="line">
            <a:avLst/>
          </a:prstGeom>
          <a:ln w="1015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324160" y="50958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905440" y="380052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143680" y="4029120"/>
            <a:ext cx="1295280" cy="762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676840" y="2124000"/>
            <a:ext cx="0" cy="3810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124760" y="2124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105840" y="2048040"/>
            <a:ext cx="0" cy="3962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734240" y="5553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886880" y="4257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362640" y="562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571840" y="968400"/>
            <a:ext cx="284796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ame  screen gro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152960" y="2886120"/>
            <a:ext cx="2133720" cy="0"/>
          </a:xfrm>
          <a:prstGeom prst="line">
            <a:avLst/>
          </a:prstGeom>
          <a:ln w="1015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-95760" bIns="-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390840" y="38768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22160" y="536400"/>
            <a:ext cx="85644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's/Con's of Split vs. Same Scre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676520" y="1673280"/>
            <a:ext cx="7439040" cy="20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lit Screen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ss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ill looks like Windows from user point of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Can't see them all a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2170080" y="460440"/>
            <a:ext cx="538632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 16/32 Client Proce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76240" y="1819440"/>
            <a:ext cx="2057400" cy="6858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200240" y="1806480"/>
            <a:ext cx="14144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bit 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23960" y="1666800"/>
            <a:ext cx="3048120" cy="3962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76240" y="3343320"/>
            <a:ext cx="2133720" cy="7621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76240" y="4714920"/>
            <a:ext cx="2743200" cy="7621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895320" y="3406680"/>
            <a:ext cx="18194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nk D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971640" y="4854600"/>
            <a:ext cx="266688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/32 client D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790640" y="25812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790640" y="4257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915080" y="1819440"/>
            <a:ext cx="2057400" cy="6858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5238720" y="1806480"/>
            <a:ext cx="14144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 bit 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762440" y="1666800"/>
            <a:ext cx="3048120" cy="3962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15080" y="4714920"/>
            <a:ext cx="2743200" cy="7621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5010120" y="4854600"/>
            <a:ext cx="26240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/32  client 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29480" y="2581200"/>
            <a:ext cx="0" cy="2057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952560" y="2200320"/>
            <a:ext cx="6477120" cy="29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 Add 16 bit Base APIs                                 8 (1.X,  VIO application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Add PM support                                         5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6 and 32 PM apps 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 separate screen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Share the glass                                        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same screen group, DDE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2170080" y="460440"/>
            <a:ext cx="568656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ing POW/NT in Ph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504800" y="1577880"/>
            <a:ext cx="86688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6076800" y="1577880"/>
            <a:ext cx="268128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x effort (M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